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28.jpeg" ContentType="image/jpeg"/>
  <Override PartName="/ppt/media/image18.png" ContentType="image/png"/>
  <Override PartName="/ppt/media/image16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3.png" ContentType="image/png"/>
  <Override PartName="/ppt/media/image11.gif" ContentType="image/gif"/>
  <Override PartName="/ppt/media/image14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36.jpeg" ContentType="image/jpeg"/>
  <Override PartName="/ppt/media/image22.jpeg" ContentType="image/jpeg"/>
  <Override PartName="/ppt/media/image9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2D82-7774-46D6-8422-892708635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AE54-D9F1-44BB-8D84-FB5654ED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D5A5-E1D6-4C67-B336-510D32715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AFA3-8C6D-4FC5-A75F-4773E019C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7C13-9229-4101-A839-D4B672C65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81EB-E551-4BCB-868E-13C725E0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9023-B6F1-4A6F-881C-C318CFCD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A8FF-AB57-4E05-867D-651E432F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77A6-9528-413F-86E3-98088EF2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32D5-C865-4517-81CB-1D865E98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AE1A-74D5-438D-A123-1FDB5A71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61AC-7C75-45B7-8509-5C4E3F6E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29E1-1D40-44DF-911A-3B52EBF5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5482-2AC5-46E3-9EEE-E7DC0774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3230-EDC5-44F7-A038-E6D5BF59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1FAE-6A87-4B6B-A9C5-246E880FA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9259-B846-47CA-BE13-5233DE8BF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E4A6E-EDA5-41EC-9CAF-2E5C47A4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B00D8-AC49-42D2-8069-13B9FD06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F49F7-885F-4383-AA14-3359998C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C1C8E-3379-4E58-BD58-ECD7B31E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79EDC-B9C9-4BA0-98DD-97496265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FAB2-516E-479B-B689-E4C6B26E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F744F-5E76-4837-8A86-D294A5EE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2B7B0-5C5D-406D-B00F-B9CDFB7D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C249C-0477-4EA1-AB8E-7AC4078F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4AB6C-81D9-4608-9289-FFBFCBC8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6AD0A-49F0-4203-AB72-A569440A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836AA-0BAC-4322-8186-D9D5E7F50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D36F1-AACF-4AFE-8F7B-F2C0651E8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335F-EF6A-4008-B602-22EF5C15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4EEF-9C04-4077-98D0-D12D1014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61C2-650B-4267-9283-ADAF28A3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7E70-F205-42A5-ADB2-F7239EE2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96F0-9806-495A-AF91-10095CAF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FD94-D8EB-49CB-A370-E7D48E2C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3062-3984-45C9-BF1D-7936B50F887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1B49-2EF9-4A70-85CA-344E6D5303B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5099-6C94-43D5-9044-8D1A8CD9A58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C:\Documents and Settings\весна2010\Мои документы\Fotolia_Scott-Rothstein_01.jpg"/>
          <p:cNvPicPr/>
          <p:nvPr/>
        </p:nvPicPr>
        <p:blipFill>
          <a:blip r:embed="rId1"/>
          <a:stretch/>
        </p:blipFill>
        <p:spPr>
          <a:xfrm>
            <a:off x="450720" y="219240"/>
            <a:ext cx="4469040" cy="2858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:\Documents and Settings\весна2010\Рабочий стол\ШКОЛА-ЮЛЯ\ЮЛЁК\САЙТ\106a.jpg"/>
          <p:cNvPicPr/>
          <p:nvPr/>
        </p:nvPicPr>
        <p:blipFill>
          <a:blip r:embed="rId2"/>
          <a:stretch/>
        </p:blipFill>
        <p:spPr>
          <a:xfrm>
            <a:off x="3267000" y="920880"/>
            <a:ext cx="288468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25" name="Text Box 11"/>
          <p:cNvGrpSpPr/>
          <p:nvPr/>
        </p:nvGrpSpPr>
        <p:grpSpPr>
          <a:xfrm>
            <a:off x="152280" y="2846520"/>
            <a:ext cx="8547120" cy="869760"/>
            <a:chOff x="152280" y="2846520"/>
            <a:chExt cx="8547120" cy="869760"/>
          </a:xfrm>
        </p:grpSpPr>
        <p:pic>
          <p:nvPicPr>
            <p:cNvPr id="126" name="Text Box 11" descr=""/>
            <p:cNvPicPr/>
            <p:nvPr/>
          </p:nvPicPr>
          <p:blipFill>
            <a:blip r:embed="rId3"/>
            <a:stretch/>
          </p:blipFill>
          <p:spPr>
            <a:xfrm>
              <a:off x="152280" y="2846520"/>
              <a:ext cx="8547120" cy="86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5"/>
            <p:cNvSpPr/>
            <p:nvPr/>
          </p:nvSpPr>
          <p:spPr>
            <a:xfrm>
              <a:off x="214200" y="2998440"/>
              <a:ext cx="842976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8" name="Text Box 3"/>
          <p:cNvGrpSpPr/>
          <p:nvPr/>
        </p:nvGrpSpPr>
        <p:grpSpPr>
          <a:xfrm>
            <a:off x="1298520" y="4846680"/>
            <a:ext cx="6686640" cy="1352520"/>
            <a:chOff x="1298520" y="4846680"/>
            <a:chExt cx="6686640" cy="1352520"/>
          </a:xfrm>
        </p:grpSpPr>
        <p:pic>
          <p:nvPicPr>
            <p:cNvPr id="129" name="Text Box 3" descr=""/>
            <p:cNvPicPr/>
            <p:nvPr/>
          </p:nvPicPr>
          <p:blipFill>
            <a:blip r:embed="rId4"/>
            <a:stretch/>
          </p:blipFill>
          <p:spPr>
            <a:xfrm>
              <a:off x="1298520" y="4846680"/>
              <a:ext cx="668664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8"/>
            <p:cNvSpPr/>
            <p:nvPr/>
          </p:nvSpPr>
          <p:spPr>
            <a:xfrm>
              <a:off x="1357200" y="4929120"/>
              <a:ext cx="6572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Georgia"/>
                </a:rPr>
                <a:t>Интегрированный урок 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Georgia"/>
                </a:rPr>
                <a:t>(химия + физика) 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Georgia"/>
                </a:rPr>
                <a:t>11 класс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92dfb"/>
                </a:solidFill>
                <a:latin typeface="Monotype Corsiva"/>
              </a:rPr>
              <a:t>Зрительная гимнастика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476360" y="184464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Georgia"/>
              </a:rPr>
              <a:t>Тренажер Базарного В.Ф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4" descr="articles/312963/image1.jpg (13753 bytes)"/>
          <p:cNvPicPr/>
          <p:nvPr/>
        </p:nvPicPr>
        <p:blipFill>
          <a:blip r:embed="rId1"/>
          <a:stretch/>
        </p:blipFill>
        <p:spPr>
          <a:xfrm>
            <a:off x="1042920" y="2565360"/>
            <a:ext cx="7345440" cy="4032360"/>
          </a:xfrm>
          <a:prstGeom prst="rect">
            <a:avLst/>
          </a:prstGeom>
          <a:ln w="0">
            <a:noFill/>
          </a:ln>
        </p:spPr>
      </p:pic>
      <p:pic>
        <p:nvPicPr>
          <p:cNvPr id="226" name="Extract from CD 6 - Track 5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07557"/>
                            </p:stCondLst>
                            <p:childTnLst>
                              <p:par>
                                <p:cTn id="2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07557"/>
                            </p:stCondLst>
                            <p:childTnLst>
                              <p:par>
                                <p:cTn id="25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10557"/>
                            </p:stCondLst>
                            <p:childTnLst>
                              <p:par>
                                <p:cTn id="25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крытие предметов слоем благородного металла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8" name="Picture 4" descr="09_big"/>
          <p:cNvPicPr/>
          <p:nvPr/>
        </p:nvPicPr>
        <p:blipFill>
          <a:blip r:embed="rId1"/>
          <a:stretch/>
        </p:blipFill>
        <p:spPr>
          <a:xfrm>
            <a:off x="1258920" y="1700280"/>
            <a:ext cx="7345440" cy="48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купол с сусальным золотом"/>
          <p:cNvPicPr/>
          <p:nvPr/>
        </p:nvPicPr>
        <p:blipFill>
          <a:blip r:embed="rId1"/>
          <a:stretch/>
        </p:blipFill>
        <p:spPr>
          <a:xfrm>
            <a:off x="1857240" y="214200"/>
            <a:ext cx="607248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гальваностегия"/>
          <p:cNvPicPr/>
          <p:nvPr/>
        </p:nvPicPr>
        <p:blipFill>
          <a:blip r:embed="rId1"/>
          <a:stretch/>
        </p:blipFill>
        <p:spPr>
          <a:xfrm>
            <a:off x="0" y="285840"/>
            <a:ext cx="5848200" cy="5883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медб - гальваностегия"/>
          <p:cNvPicPr/>
          <p:nvPr/>
        </p:nvPicPr>
        <p:blipFill>
          <a:blip r:embed="rId2"/>
          <a:stretch/>
        </p:blipFill>
        <p:spPr>
          <a:xfrm>
            <a:off x="5857920" y="0"/>
            <a:ext cx="320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получение электролитическим способом более толстых отложений (до нескольких миллиметров)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АЛЬВАНОПЛАСТИКА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Picture 9" descr="FIG13"/>
          <p:cNvPicPr/>
          <p:nvPr/>
        </p:nvPicPr>
        <p:blipFill>
          <a:blip r:embed="rId1"/>
          <a:stretch/>
        </p:blipFill>
        <p:spPr>
          <a:xfrm>
            <a:off x="5786280" y="2643120"/>
            <a:ext cx="2511720" cy="37339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0"/>
          <p:cNvSpPr/>
          <p:nvPr/>
        </p:nvSpPr>
        <p:spPr>
          <a:xfrm>
            <a:off x="928800" y="4000680"/>
            <a:ext cx="428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пия барельефа, полученная методом гальванопласти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99640" y="189000"/>
            <a:ext cx="75438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готовление медалей, монет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7" name="Picture 4" descr="5306_1"/>
          <p:cNvPicPr/>
          <p:nvPr/>
        </p:nvPicPr>
        <p:blipFill>
          <a:blip r:embed="rId1"/>
          <a:stretch/>
        </p:blipFill>
        <p:spPr>
          <a:xfrm>
            <a:off x="68400" y="1714680"/>
            <a:ext cx="3768480" cy="37810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17[1]"/>
          <p:cNvPicPr/>
          <p:nvPr/>
        </p:nvPicPr>
        <p:blipFill>
          <a:blip r:embed="rId2"/>
          <a:stretch/>
        </p:blipFill>
        <p:spPr>
          <a:xfrm>
            <a:off x="3830760" y="1731960"/>
            <a:ext cx="53132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899640" y="260280"/>
            <a:ext cx="7993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изведения искусства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рельефы для:       Исаакиевского собор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0" name="Picture 4" descr="барельеф исаакиевского собора"/>
          <p:cNvPicPr/>
          <p:nvPr/>
        </p:nvPicPr>
        <p:blipFill>
          <a:blip r:embed="rId1"/>
          <a:stretch/>
        </p:blipFill>
        <p:spPr>
          <a:xfrm>
            <a:off x="900000" y="1700280"/>
            <a:ext cx="7993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899640" y="189000"/>
            <a:ext cx="75438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готовление медалей, монет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2" name="Picture 4" descr="5306_1"/>
          <p:cNvPicPr/>
          <p:nvPr/>
        </p:nvPicPr>
        <p:blipFill>
          <a:blip r:embed="rId1"/>
          <a:stretch/>
        </p:blipFill>
        <p:spPr>
          <a:xfrm>
            <a:off x="68400" y="1714680"/>
            <a:ext cx="3768480" cy="3781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17[1]"/>
          <p:cNvPicPr/>
          <p:nvPr/>
        </p:nvPicPr>
        <p:blipFill>
          <a:blip r:embed="rId2"/>
          <a:stretch/>
        </p:blipFill>
        <p:spPr>
          <a:xfrm>
            <a:off x="3830760" y="1731960"/>
            <a:ext cx="53132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066320" y="259920"/>
            <a:ext cx="754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тропавловского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ор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5" name="Picture 6" descr="петропавловский собор3"/>
          <p:cNvPicPr/>
          <p:nvPr/>
        </p:nvPicPr>
        <p:blipFill>
          <a:blip r:embed="rId1"/>
          <a:stretch/>
        </p:blipFill>
        <p:spPr>
          <a:xfrm>
            <a:off x="2556000" y="865080"/>
            <a:ext cx="42098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066320" y="260280"/>
            <a:ext cx="7543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рмитаж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7" name="Picture 4" descr="барельеф эрмитажа"/>
          <p:cNvPicPr/>
          <p:nvPr/>
        </p:nvPicPr>
        <p:blipFill>
          <a:blip r:embed="rId1"/>
          <a:stretch/>
        </p:blipFill>
        <p:spPr>
          <a:xfrm>
            <a:off x="1979640" y="836640"/>
            <a:ext cx="57006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Documents and Settings\весна2010\Мои документы\CrystalCity.jpg"/>
          <p:cNvPicPr/>
          <p:nvPr/>
        </p:nvPicPr>
        <p:blipFill>
          <a:blip r:embed="rId1"/>
          <a:stretch/>
        </p:blipFill>
        <p:spPr>
          <a:xfrm>
            <a:off x="4368960" y="808200"/>
            <a:ext cx="4730760" cy="3084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Documents and Settings\весна2010\Мои документы\image_24866.thumbnail.jpg"/>
          <p:cNvPicPr/>
          <p:nvPr/>
        </p:nvPicPr>
        <p:blipFill>
          <a:blip r:embed="rId2"/>
          <a:stretch/>
        </p:blipFill>
        <p:spPr>
          <a:xfrm>
            <a:off x="-376200" y="1125360"/>
            <a:ext cx="4357800" cy="3445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C:\Documents and Settings\весна2010\Мои документы\photo_9_l.jpg"/>
          <p:cNvPicPr/>
          <p:nvPr/>
        </p:nvPicPr>
        <p:blipFill>
          <a:blip r:embed="rId3"/>
          <a:stretch/>
        </p:blipFill>
        <p:spPr>
          <a:xfrm>
            <a:off x="-352440" y="3639960"/>
            <a:ext cx="5280120" cy="3778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Documents and Settings\весна2010\Мои документы\Waseda-University-heartbeat-compensation-robot.jpg"/>
          <p:cNvPicPr/>
          <p:nvPr/>
        </p:nvPicPr>
        <p:blipFill>
          <a:blip r:embed="rId4"/>
          <a:stretch/>
        </p:blipFill>
        <p:spPr>
          <a:xfrm>
            <a:off x="3664080" y="3341520"/>
            <a:ext cx="5479920" cy="3511800"/>
          </a:xfrm>
          <a:prstGeom prst="rect">
            <a:avLst/>
          </a:prstGeom>
          <a:ln w="0">
            <a:noFill/>
          </a:ln>
        </p:spPr>
      </p:pic>
      <p:grpSp>
        <p:nvGrpSpPr>
          <p:cNvPr id="135" name="Text Box 3"/>
          <p:cNvGrpSpPr/>
          <p:nvPr/>
        </p:nvGrpSpPr>
        <p:grpSpPr>
          <a:xfrm>
            <a:off x="1782720" y="0"/>
            <a:ext cx="7245360" cy="3739320"/>
            <a:chOff x="1782720" y="0"/>
            <a:chExt cx="7245360" cy="3739320"/>
          </a:xfrm>
        </p:grpSpPr>
        <p:pic>
          <p:nvPicPr>
            <p:cNvPr id="136" name="Text Box 3" descr=""/>
            <p:cNvPicPr/>
            <p:nvPr/>
          </p:nvPicPr>
          <p:blipFill>
            <a:blip r:embed="rId5"/>
            <a:stretch/>
          </p:blipFill>
          <p:spPr>
            <a:xfrm>
              <a:off x="1782720" y="0"/>
              <a:ext cx="7245360" cy="161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7"/>
            <p:cNvSpPr/>
            <p:nvPr/>
          </p:nvSpPr>
          <p:spPr>
            <a:xfrm>
              <a:off x="1802880" y="232560"/>
              <a:ext cx="656532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Georgia"/>
                </a:rPr>
                <a:t>« Химик без знания физики подобен человеку, который все должен искать щупом» М.В.Ломоносов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066320" y="188640"/>
            <a:ext cx="754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имнего дворц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9" name="Picture 4" descr="зимний дворец"/>
          <p:cNvPicPr/>
          <p:nvPr/>
        </p:nvPicPr>
        <p:blipFill>
          <a:blip r:embed="rId1"/>
          <a:stretch/>
        </p:blipFill>
        <p:spPr>
          <a:xfrm>
            <a:off x="826920" y="879480"/>
            <a:ext cx="7777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066320" y="189000"/>
            <a:ext cx="754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льшого театр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1" name="Picture 4" descr="барельефы большого театра"/>
          <p:cNvPicPr/>
          <p:nvPr/>
        </p:nvPicPr>
        <p:blipFill>
          <a:blip r:embed="rId1"/>
          <a:stretch/>
        </p:blipFill>
        <p:spPr>
          <a:xfrm>
            <a:off x="900000" y="792000"/>
            <a:ext cx="7993080" cy="59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066320" y="260280"/>
            <a:ext cx="75438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дные клише для типографи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3" name="Picture 4" descr="клише"/>
          <p:cNvPicPr/>
          <p:nvPr/>
        </p:nvPicPr>
        <p:blipFill>
          <a:blip r:embed="rId1"/>
          <a:stretch/>
        </p:blipFill>
        <p:spPr>
          <a:xfrm>
            <a:off x="122400" y="839880"/>
            <a:ext cx="4464000" cy="29908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медные клише"/>
          <p:cNvPicPr/>
          <p:nvPr/>
        </p:nvPicPr>
        <p:blipFill>
          <a:blip r:embed="rId2"/>
          <a:stretch/>
        </p:blipFill>
        <p:spPr>
          <a:xfrm>
            <a:off x="4543560" y="839880"/>
            <a:ext cx="4500360" cy="3014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медных копий с моент, медалей1"/>
          <p:cNvPicPr/>
          <p:nvPr/>
        </p:nvPicPr>
        <p:blipFill>
          <a:blip r:embed="rId3"/>
          <a:stretch/>
        </p:blipFill>
        <p:spPr>
          <a:xfrm>
            <a:off x="1446120" y="3757680"/>
            <a:ext cx="633564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прессформы"/>
          <p:cNvPicPr/>
          <p:nvPr/>
        </p:nvPicPr>
        <p:blipFill>
          <a:blip r:embed="rId1"/>
          <a:stretch/>
        </p:blipFill>
        <p:spPr>
          <a:xfrm>
            <a:off x="4286160" y="2857680"/>
            <a:ext cx="4857840" cy="31431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28760" y="-360"/>
            <a:ext cx="7850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сс-формы из пластмассы, резины, металл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8" name="Picture 4" descr="прессформа"/>
          <p:cNvPicPr/>
          <p:nvPr/>
        </p:nvPicPr>
        <p:blipFill>
          <a:blip r:embed="rId2"/>
          <a:stretch/>
        </p:blipFill>
        <p:spPr>
          <a:xfrm>
            <a:off x="571680" y="1143000"/>
            <a:ext cx="410508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есс-формы из пластмассы, резины, металл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прессформы из металла"/>
          <p:cNvPicPr/>
          <p:nvPr/>
        </p:nvPicPr>
        <p:blipFill>
          <a:blip r:embed="rId2"/>
          <a:stretch/>
        </p:blipFill>
        <p:spPr>
          <a:xfrm>
            <a:off x="928800" y="1857240"/>
            <a:ext cx="728640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64" name="Text Box 11"/>
          <p:cNvGrpSpPr/>
          <p:nvPr/>
        </p:nvGrpSpPr>
        <p:grpSpPr>
          <a:xfrm>
            <a:off x="298440" y="1706400"/>
            <a:ext cx="8613720" cy="2921040"/>
            <a:chOff x="298440" y="1706400"/>
            <a:chExt cx="8613720" cy="2921040"/>
          </a:xfrm>
        </p:grpSpPr>
        <p:pic>
          <p:nvPicPr>
            <p:cNvPr id="265" name="Text Box 11" descr=""/>
            <p:cNvPicPr/>
            <p:nvPr/>
          </p:nvPicPr>
          <p:blipFill>
            <a:blip r:embed="rId1"/>
            <a:stretch/>
          </p:blipFill>
          <p:spPr>
            <a:xfrm>
              <a:off x="298440" y="1706400"/>
              <a:ext cx="8613720" cy="29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5"/>
            <p:cNvSpPr/>
            <p:nvPr/>
          </p:nvSpPr>
          <p:spPr>
            <a:xfrm>
              <a:off x="357120" y="2000160"/>
              <a:ext cx="850104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0" spc="-1" strike="noStrike">
                  <a:solidFill>
                    <a:srgbClr val="000000"/>
                  </a:solidFill>
                  <a:latin typeface="Georgia"/>
                </a:rPr>
                <a:t>Получение алюминия</a:t>
              </a:r>
              <a:endParaRPr b="0" lang="en-US" sz="8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Documents and Settings\весна2010\Мои документы\dis_01.gif"/>
          <p:cNvPicPr/>
          <p:nvPr/>
        </p:nvPicPr>
        <p:blipFill>
          <a:blip r:embed="rId1"/>
          <a:stretch/>
        </p:blipFill>
        <p:spPr>
          <a:xfrm>
            <a:off x="395280" y="155736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2239920" y="357120"/>
            <a:ext cx="6500880" cy="584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080" y="-403560"/>
            <a:ext cx="18795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Содержимое 2"/>
          <p:cNvSpPr/>
          <p:nvPr/>
        </p:nvSpPr>
        <p:spPr>
          <a:xfrm>
            <a:off x="4454640" y="2824200"/>
            <a:ext cx="42861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NaCl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N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Cl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-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Стрелка вправо 11"/>
          <p:cNvSpPr/>
          <p:nvPr/>
        </p:nvSpPr>
        <p:spPr>
          <a:xfrm>
            <a:off x="5929200" y="3214800"/>
            <a:ext cx="642960" cy="285480"/>
          </a:xfrm>
          <a:prstGeom prst="rightArrow">
            <a:avLst>
              <a:gd name="adj1" fmla="val 50000"/>
              <a:gd name="adj2" fmla="val 50049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Содержимое 2"/>
          <p:cNvSpPr/>
          <p:nvPr/>
        </p:nvSpPr>
        <p:spPr>
          <a:xfrm>
            <a:off x="4483080" y="2798640"/>
            <a:ext cx="42861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NaCl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N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Cl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-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Стрелка вправо 13"/>
          <p:cNvSpPr/>
          <p:nvPr/>
        </p:nvSpPr>
        <p:spPr>
          <a:xfrm rot="10800000">
            <a:off x="5929200" y="2857320"/>
            <a:ext cx="642960" cy="285480"/>
          </a:xfrm>
          <a:prstGeom prst="rightArrow">
            <a:avLst>
              <a:gd name="adj1" fmla="val 50000"/>
              <a:gd name="adj2" fmla="val 50049"/>
            </a:avLst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Line 3"/>
          <p:cNvSpPr/>
          <p:nvPr/>
        </p:nvSpPr>
        <p:spPr>
          <a:xfrm>
            <a:off x="380880" y="289548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380880" y="5638680"/>
            <a:ext cx="480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 flipV="1">
            <a:off x="5181480" y="289548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80880" y="3352680"/>
            <a:ext cx="4800600" cy="22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Oval 7"/>
          <p:cNvSpPr/>
          <p:nvPr/>
        </p:nvSpPr>
        <p:spPr>
          <a:xfrm>
            <a:off x="2057400" y="137160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Oval 8"/>
          <p:cNvSpPr/>
          <p:nvPr/>
        </p:nvSpPr>
        <p:spPr>
          <a:xfrm>
            <a:off x="2362320" y="1371600"/>
            <a:ext cx="457200" cy="45720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2895480" y="13716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Na C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838080" y="495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a</a:t>
            </a:r>
            <a:r>
              <a:rPr b="1" lang="en-US" sz="24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358128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</a:t>
            </a:r>
            <a:r>
              <a:rPr b="1" lang="en-US" sz="2400" spc="-1" strike="noStrike" baseline="30000">
                <a:solidFill>
                  <a:srgbClr val="003366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Oval 15"/>
          <p:cNvSpPr/>
          <p:nvPr/>
        </p:nvSpPr>
        <p:spPr>
          <a:xfrm>
            <a:off x="3505320" y="3505320"/>
            <a:ext cx="457200" cy="45720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Oval 16"/>
          <p:cNvSpPr/>
          <p:nvPr/>
        </p:nvSpPr>
        <p:spPr>
          <a:xfrm>
            <a:off x="533520" y="510552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Oval 17"/>
          <p:cNvSpPr/>
          <p:nvPr/>
        </p:nvSpPr>
        <p:spPr>
          <a:xfrm>
            <a:off x="2209680" y="495288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Oval 18"/>
          <p:cNvSpPr/>
          <p:nvPr/>
        </p:nvSpPr>
        <p:spPr>
          <a:xfrm>
            <a:off x="4419720" y="502920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Oval 19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Oval 20"/>
          <p:cNvSpPr/>
          <p:nvPr/>
        </p:nvSpPr>
        <p:spPr>
          <a:xfrm>
            <a:off x="1417680" y="3936960"/>
            <a:ext cx="487440" cy="50976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Oval 21"/>
          <p:cNvSpPr/>
          <p:nvPr/>
        </p:nvSpPr>
        <p:spPr>
          <a:xfrm>
            <a:off x="4343400" y="380988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Oval 22"/>
          <p:cNvSpPr/>
          <p:nvPr/>
        </p:nvSpPr>
        <p:spPr>
          <a:xfrm>
            <a:off x="1676520" y="342900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Oval 23"/>
          <p:cNvSpPr/>
          <p:nvPr/>
        </p:nvSpPr>
        <p:spPr>
          <a:xfrm>
            <a:off x="2438280" y="4343400"/>
            <a:ext cx="457200" cy="45720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Oval 24"/>
          <p:cNvSpPr/>
          <p:nvPr/>
        </p:nvSpPr>
        <p:spPr>
          <a:xfrm>
            <a:off x="3246480" y="5079960"/>
            <a:ext cx="487440" cy="50976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Line 26"/>
          <p:cNvSpPr/>
          <p:nvPr/>
        </p:nvSpPr>
        <p:spPr>
          <a:xfrm>
            <a:off x="228600" y="1143000"/>
            <a:ext cx="86868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Line 27"/>
          <p:cNvSpPr/>
          <p:nvPr/>
        </p:nvSpPr>
        <p:spPr>
          <a:xfrm>
            <a:off x="5410080" y="1371600"/>
            <a:ext cx="0" cy="42670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Text Box 28"/>
          <p:cNvSpPr/>
          <p:nvPr/>
        </p:nvSpPr>
        <p:spPr>
          <a:xfrm>
            <a:off x="5943600" y="15238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aCl </a:t>
            </a:r>
            <a:r>
              <a:rPr b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Na</a:t>
            </a:r>
            <a:r>
              <a:rPr b="1" lang="en-US" sz="28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+ Cl</a:t>
            </a:r>
            <a:r>
              <a:rPr b="1" lang="en-US" sz="3600" spc="-1" strike="noStrike" baseline="30000">
                <a:solidFill>
                  <a:srgbClr val="003366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Line 29"/>
          <p:cNvSpPr/>
          <p:nvPr/>
        </p:nvSpPr>
        <p:spPr>
          <a:xfrm>
            <a:off x="5943600" y="2286000"/>
            <a:ext cx="281952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Text Box 30"/>
          <p:cNvSpPr/>
          <p:nvPr/>
        </p:nvSpPr>
        <p:spPr>
          <a:xfrm>
            <a:off x="5943600" y="2590920"/>
            <a:ext cx="297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Диссоциация других веществ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Text Box 31"/>
          <p:cNvSpPr/>
          <p:nvPr/>
        </p:nvSpPr>
        <p:spPr>
          <a:xfrm>
            <a:off x="5715000" y="3352680"/>
            <a:ext cx="30481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uSO</a:t>
            </a:r>
            <a:r>
              <a:rPr b="1" lang="en-US" sz="20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Cu </a:t>
            </a:r>
            <a:r>
              <a:rPr b="1" lang="en-US" sz="2400" spc="-1" strike="noStrike" baseline="30000">
                <a:solidFill>
                  <a:srgbClr val="003366"/>
                </a:solidFill>
                <a:latin typeface="Arial"/>
              </a:rPr>
              <a:t>2+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+ SO</a:t>
            </a:r>
            <a:r>
              <a:rPr b="1" lang="en-US" sz="20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3366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Text Box 32"/>
          <p:cNvSpPr/>
          <p:nvPr/>
        </p:nvSpPr>
        <p:spPr>
          <a:xfrm>
            <a:off x="5715000" y="3886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Cl </a:t>
            </a:r>
            <a:r>
              <a:rPr b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H </a:t>
            </a:r>
            <a:r>
              <a:rPr b="1" lang="en-US" sz="24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+ Cl</a:t>
            </a:r>
            <a:r>
              <a:rPr b="1" lang="en-US" sz="2400" spc="-1" strike="noStrike" baseline="30000">
                <a:solidFill>
                  <a:srgbClr val="003366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Text Box 33"/>
          <p:cNvSpPr/>
          <p:nvPr/>
        </p:nvSpPr>
        <p:spPr>
          <a:xfrm>
            <a:off x="5715000" y="4419720"/>
            <a:ext cx="32004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O</a:t>
            </a:r>
            <a:r>
              <a:rPr b="1" lang="en-US" sz="20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H</a:t>
            </a:r>
            <a:r>
              <a:rPr b="1" lang="en-US" sz="24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+ H</a:t>
            </a:r>
            <a:r>
              <a:rPr b="1" lang="en-US" sz="24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+ SO</a:t>
            </a:r>
            <a:r>
              <a:rPr b="1" lang="en-US" sz="20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3366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Text Box 34"/>
          <p:cNvSpPr/>
          <p:nvPr/>
        </p:nvSpPr>
        <p:spPr>
          <a:xfrm>
            <a:off x="5715000" y="4952880"/>
            <a:ext cx="31240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aCl</a:t>
            </a:r>
            <a:r>
              <a:rPr b="1" lang="en-US" sz="20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Ca </a:t>
            </a:r>
            <a:r>
              <a:rPr b="1" lang="en-US" sz="2400" spc="-1" strike="noStrike" baseline="30000">
                <a:solidFill>
                  <a:srgbClr val="003366"/>
                </a:solidFill>
                <a:latin typeface="Arial"/>
              </a:rPr>
              <a:t>2+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+ Cl</a:t>
            </a:r>
            <a:r>
              <a:rPr b="1" lang="en-US" sz="2400" spc="-1" strike="noStrike" baseline="30000">
                <a:solidFill>
                  <a:srgbClr val="003366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l</a:t>
            </a:r>
            <a:r>
              <a:rPr b="1" lang="en-US" sz="2400" spc="-1" strike="noStrike" baseline="30000">
                <a:solidFill>
                  <a:srgbClr val="003366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Text Box 35"/>
          <p:cNvSpPr/>
          <p:nvPr/>
        </p:nvSpPr>
        <p:spPr>
          <a:xfrm>
            <a:off x="228600" y="5791320"/>
            <a:ext cx="86104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…. ионы металлов и водорода всегда заряжены….., а ионы кислотных радикалов и группы ОН - ....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4798E-006 C -0.01371 0.14682 -0.00312 0.02219 -0.00312 0.37734 E">
                                      <p:cBhvr>
                                        <p:cTn id="15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4798E-006 C -0.01372 0.14682 -0.00313 0.02219 -0.00313 0.37734 E">
                                      <p:cBhvr>
                                        <p:cTn id="17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0.37734 C 4.9999999999998E-006 0.3919 0.00711 0.39029 0.01494 0.39792 C 0.01667 0.39953 0.01789 0.40185 0.0198 0.40323 C 0.02275 0.40578 0.02935 0.41017 0.02935 0.4104 C 0.03438 0.41873 0.04219 0.42219 0.05122 0.42381 C 0.05556 0.4289 0.06077 0.43075 0.06685 0.4319 C 0.07327 0.43445 0.07952 0.43514 0.08612 0.43607 C 0.09966 0.44393 0.12778 0.443 0.14167 0.443 E">
                                      <p:cBhvr>
                                        <p:cTn id="21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0.37734 C -0.00833 0.38358 -0.01128 0.3926 -0.01597 0.39907 C -0.01823 0.40185 -0.02187 0.40323 -0.02413 0.40531 C -0.0283 0.40901 -0.03159 0.41433 -0.03576 0.41757 C -0.03975 0.42104 -0.04722 0.42543 -0.05191 0.42705 C -0.05746 0.4319 -0.06284 0.43607 -0.06927 0.43792 C -0.0802 0.44855 -0.09583 0.44971 -0.10885 0.45179 C -0.11423 0.45271 -0.11944 0.45503 -0.125 0.45503 E">
                                      <p:cBhvr>
                                        <p:cTn id="23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Тема урока. Электролиз. Закон электролиза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Text Box 3"/>
          <p:cNvGrpSpPr/>
          <p:nvPr/>
        </p:nvGrpSpPr>
        <p:grpSpPr>
          <a:xfrm>
            <a:off x="66600" y="706320"/>
            <a:ext cx="6334200" cy="1354320"/>
            <a:chOff x="66600" y="706320"/>
            <a:chExt cx="6334200" cy="1354320"/>
          </a:xfrm>
        </p:grpSpPr>
        <p:pic>
          <p:nvPicPr>
            <p:cNvPr id="177" name="Text Box 3" descr=""/>
            <p:cNvPicPr/>
            <p:nvPr/>
          </p:nvPicPr>
          <p:blipFill>
            <a:blip r:embed="rId1"/>
            <a:stretch/>
          </p:blipFill>
          <p:spPr>
            <a:xfrm>
              <a:off x="66600" y="706320"/>
              <a:ext cx="6334200" cy="13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3"/>
            <p:cNvSpPr/>
            <p:nvPr/>
          </p:nvSpPr>
          <p:spPr>
            <a:xfrm>
              <a:off x="214200" y="785880"/>
              <a:ext cx="61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Georgia"/>
                </a:rPr>
                <a:t>Положительные ионы (катионы) движутся к катоду, отрицательные ионы (анионы) движутся к аноду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9" name="Line 4"/>
          <p:cNvSpPr/>
          <p:nvPr/>
        </p:nvSpPr>
        <p:spPr>
          <a:xfrm>
            <a:off x="152280" y="1981080"/>
            <a:ext cx="86868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838080" y="3124080"/>
            <a:ext cx="4724640" cy="2819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066680" y="2819520"/>
            <a:ext cx="152640" cy="274320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5029200" y="2819520"/>
            <a:ext cx="152280" cy="27432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Line 9"/>
          <p:cNvSpPr/>
          <p:nvPr/>
        </p:nvSpPr>
        <p:spPr>
          <a:xfrm flipV="1">
            <a:off x="1143000" y="25142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Line 10"/>
          <p:cNvSpPr/>
          <p:nvPr/>
        </p:nvSpPr>
        <p:spPr>
          <a:xfrm>
            <a:off x="1143000" y="25146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Line 11"/>
          <p:cNvSpPr/>
          <p:nvPr/>
        </p:nvSpPr>
        <p:spPr>
          <a:xfrm>
            <a:off x="2590920" y="236232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Line 12"/>
          <p:cNvSpPr/>
          <p:nvPr/>
        </p:nvSpPr>
        <p:spPr>
          <a:xfrm>
            <a:off x="2743200" y="2209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Line 13"/>
          <p:cNvSpPr/>
          <p:nvPr/>
        </p:nvSpPr>
        <p:spPr>
          <a:xfrm>
            <a:off x="2743200" y="251460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Line 14"/>
          <p:cNvSpPr/>
          <p:nvPr/>
        </p:nvSpPr>
        <p:spPr>
          <a:xfrm flipV="1">
            <a:off x="5105520" y="25142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5181480" y="2362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(анод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934920" y="2362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(катод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Oval 27"/>
          <p:cNvSpPr/>
          <p:nvPr/>
        </p:nvSpPr>
        <p:spPr>
          <a:xfrm>
            <a:off x="3886200" y="3270240"/>
            <a:ext cx="650880" cy="649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Oval 28"/>
          <p:cNvSpPr/>
          <p:nvPr/>
        </p:nvSpPr>
        <p:spPr>
          <a:xfrm>
            <a:off x="1752480" y="4946400"/>
            <a:ext cx="650880" cy="649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Oval 29"/>
          <p:cNvSpPr/>
          <p:nvPr/>
        </p:nvSpPr>
        <p:spPr>
          <a:xfrm>
            <a:off x="4114800" y="4946400"/>
            <a:ext cx="650880" cy="649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Oval 31"/>
          <p:cNvSpPr/>
          <p:nvPr/>
        </p:nvSpPr>
        <p:spPr>
          <a:xfrm>
            <a:off x="1371600" y="3270240"/>
            <a:ext cx="650880" cy="649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Oval 32"/>
          <p:cNvSpPr/>
          <p:nvPr/>
        </p:nvSpPr>
        <p:spPr>
          <a:xfrm>
            <a:off x="2819520" y="5175000"/>
            <a:ext cx="650880" cy="649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Oval 33"/>
          <p:cNvSpPr/>
          <p:nvPr/>
        </p:nvSpPr>
        <p:spPr>
          <a:xfrm>
            <a:off x="3733920" y="4108320"/>
            <a:ext cx="650880" cy="649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Oval 34"/>
          <p:cNvSpPr/>
          <p:nvPr/>
        </p:nvSpPr>
        <p:spPr>
          <a:xfrm>
            <a:off x="2666880" y="3727440"/>
            <a:ext cx="650880" cy="649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Oval 35"/>
          <p:cNvSpPr/>
          <p:nvPr/>
        </p:nvSpPr>
        <p:spPr>
          <a:xfrm>
            <a:off x="1697040" y="4170960"/>
            <a:ext cx="650880" cy="649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Line 36"/>
          <p:cNvSpPr/>
          <p:nvPr/>
        </p:nvSpPr>
        <p:spPr>
          <a:xfrm>
            <a:off x="1981080" y="358128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Line 37"/>
          <p:cNvSpPr/>
          <p:nvPr/>
        </p:nvSpPr>
        <p:spPr>
          <a:xfrm>
            <a:off x="2286000" y="449568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Line 38"/>
          <p:cNvSpPr/>
          <p:nvPr/>
        </p:nvSpPr>
        <p:spPr>
          <a:xfrm>
            <a:off x="4343400" y="441972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Line 39"/>
          <p:cNvSpPr/>
          <p:nvPr/>
        </p:nvSpPr>
        <p:spPr>
          <a:xfrm>
            <a:off x="3429000" y="548640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Line 41"/>
          <p:cNvSpPr/>
          <p:nvPr/>
        </p:nvSpPr>
        <p:spPr>
          <a:xfrm flipH="1">
            <a:off x="3429000" y="35812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Line 42"/>
          <p:cNvSpPr/>
          <p:nvPr/>
        </p:nvSpPr>
        <p:spPr>
          <a:xfrm flipH="1">
            <a:off x="3657600" y="52578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Line 43"/>
          <p:cNvSpPr/>
          <p:nvPr/>
        </p:nvSpPr>
        <p:spPr>
          <a:xfrm flipH="1">
            <a:off x="1371600" y="52578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Line 44"/>
          <p:cNvSpPr/>
          <p:nvPr/>
        </p:nvSpPr>
        <p:spPr>
          <a:xfrm flipH="1">
            <a:off x="2209680" y="40384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Text Box 45"/>
          <p:cNvSpPr/>
          <p:nvPr/>
        </p:nvSpPr>
        <p:spPr>
          <a:xfrm>
            <a:off x="6215040" y="2643120"/>
            <a:ext cx="2681280" cy="1008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Электролиз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– это процесс …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faraday_1"/>
          <p:cNvPicPr/>
          <p:nvPr/>
        </p:nvPicPr>
        <p:blipFill>
          <a:blip r:embed="rId1"/>
          <a:stretch/>
        </p:blipFill>
        <p:spPr>
          <a:xfrm>
            <a:off x="-152280" y="706320"/>
            <a:ext cx="4101840" cy="47196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357120" y="285840"/>
            <a:ext cx="8143920" cy="947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сследовал электролиз и открыл его законы английский физик Майкл Фарадей в 1834 год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214200" y="5041800"/>
            <a:ext cx="3619440" cy="1797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Майкл Фарадей (1791 – 1867)      Открыл явление электромагнитной индукции, законы электролиза, ввел представления об электрическом и магнитном пол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4071960" y="1500120"/>
            <a:ext cx="4643280" cy="24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Первый закон электролиз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Масса вещества, выделившегося на электродах при электролизе, прямо пропорциональна величине заряда, прошедшего через электроли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2"/>
              <p:cNvSpPr txBox="1"/>
              <p:nvPr/>
            </p:nvSpPr>
            <p:spPr>
              <a:xfrm>
                <a:off x="4214880" y="5000760"/>
                <a:ext cx="14475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Text Box 9"/>
          <p:cNvSpPr/>
          <p:nvPr/>
        </p:nvSpPr>
        <p:spPr>
          <a:xfrm>
            <a:off x="4071960" y="4214880"/>
            <a:ext cx="4800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лектрохимический эквивалент вещества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равен массе вещества, выделившегося при прохождении через электролит заряда 1 Кл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3"/>
              <p:cNvSpPr txBox="1"/>
              <p:nvPr/>
            </p:nvSpPr>
            <p:spPr>
              <a:xfrm>
                <a:off x="6286680" y="5000760"/>
                <a:ext cx="2090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ча.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айте массу меди, полученной при электролизе водного раствора сульфата меди c графитовыми электродами,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если на аноде выделилось 6,4 г кислород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Решение задачи физическим методом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Решение задачи химическим методом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альваностегия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1680" y="1643040"/>
            <a:ext cx="3892680" cy="48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это процесс, который позволяет покрыть изделие слоем (плёнкой) благородного металла защитить его от коррозии, повысить стойкость на износ, произвести отделку изделий. Гальванические цеха есть на многих металлургических и других заводах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2" name="Picture 5" descr="image001"/>
          <p:cNvPicPr/>
          <p:nvPr/>
        </p:nvPicPr>
        <p:blipFill>
          <a:blip r:embed="rId1"/>
          <a:stretch/>
        </p:blipFill>
        <p:spPr>
          <a:xfrm>
            <a:off x="146160" y="1928880"/>
            <a:ext cx="49831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20:50:27Z</dcterms:created>
  <dc:creator>2</dc:creator>
  <dc:description/>
  <dc:language>en-US</dc:language>
  <cp:lastModifiedBy>1</cp:lastModifiedBy>
  <dcterms:modified xsi:type="dcterms:W3CDTF">2019-12-24T22:03:25Z</dcterms:modified>
  <cp:revision>82</cp:revision>
  <dc:subject/>
  <dc:title>ЭЛЕКТРОЛИЗ</dc:title>
</cp:coreProperties>
</file>