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EAE-98BE-415E-B781-EA710C2F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4F0-624A-4BAD-89D2-7345319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8E0-2D17-42E1-8E58-B32F1434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DF6-FF27-45CB-A555-62461C51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2CBF-E813-4860-BE8C-731FD139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806B-3CA6-40ED-9CEC-AF3D2A90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7ADE-DC1A-472A-B3C4-D0A488C2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DAC5-3C8A-4A15-8068-A46E9234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501E-B8B4-47D9-A92A-3076A237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757-260F-464F-BCDA-9A3134E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36A5-465A-4FB3-AD3B-E7B14AE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16C-75C8-4215-8927-B6AB6D0E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C4A-2ED9-451D-90F9-0B48615B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A928-78D5-4341-8411-0A5B0F2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7C8-C0AD-4CA7-AE44-28AA129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880A-E6C5-4592-A08E-D2050464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FA3-9202-4C13-86BB-716CD56C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A2C-FA56-4101-8D71-5127988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C42-3A17-4D29-BD24-8F13789E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048-FA7F-4CE0-9E56-200EDD4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B66-1E2E-4397-B634-275394BB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15B-6944-44E9-AAA5-8FCE897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3BD-84C1-48FC-B8CD-E208D1D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64D-BF3E-49EB-B7C9-6432B23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C8F2-ECC9-4DF5-99F2-CE8501A0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690D-C1FA-4C7D-AE12-5604D3854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nteroko.ru/" TargetMode="External"/><Relationship Id="rId2" Type="http://schemas.openxmlformats.org/officeDocument/2006/relationships/hyperlink" Target="http://www.centeroko.ru/" TargetMode="External"/><Relationship Id="rId3" Type="http://schemas.openxmlformats.org/officeDocument/2006/relationships/hyperlink" Target="http://www.centeroko.ru/" TargetMode="External"/><Relationship Id="rId4" Type="http://schemas.openxmlformats.org/officeDocument/2006/relationships/hyperlink" Target="http://www.centeroko.ru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7416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Компетентностный подход 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в образовани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8360" y="4653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езультаты российских школь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 международном исследовании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Способы формирования и оценивания ключевых компетентностей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ahoma"/>
              </a:rPr>
              <a:t>Интерактивно использовать инструменты взаимодействия со сред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блемное, исследовательское обучение, учебные проекты;  компетентностно ориентированные задания (ти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ahoma"/>
              </a:rPr>
              <a:t>Функционировать в социально неоднородных группах: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ые проекты; тренинги; школьный уклад, ученическое самоуправ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ahoma"/>
              </a:rPr>
              <a:t>Действовать автономн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ртфолио; учебные проекты и исследовательские задачи; кейс-технология; индивидуальная образовательная програм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Что же такое компетентностный подход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064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организация такого процесса обучения, который имеет своей основной целью и результатом формирование ключевых компетентно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При этом подходе управление качеством образования начинается с определения состава тех компетенций, которые должны быть освоены в учебном процессе как образовательные результаты. По существу речь идет о компетентностной модели ученика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Каково качество российского образования с точки зрения наличия компетентностей у выпускников школы?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Как сегодня объективно оценить качество российского образования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Э? </a:t>
            </a: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Не дает возможности для сравнения с международными стандар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ы международных олимпиад? </a:t>
            </a: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Они хороши, но в олимпиадах участвует небольшой процент школьни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ы международных исследований подготовки школьник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SA, TIMS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? </a:t>
            </a: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На сегодня, по-видимому, это самый объективный способ провер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Что такое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ая программа по оценке образовательных достижений учащихся PISA (Programme for International Student Assessment) осуществляется Организацией Экономического Сотрудничества и Развития ОЭСР (OECD – Organization for Economic Cooperation and Development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е PISA проводится трехлетними циклами. В исследовании проводится оценка математической грамотности, естественнонаучной грамотности и грамотности чтения. Приоритетной областью PISA в 2006 году была естественнонаучная грамотность (2000 год – чтение, 2003 год – математи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Что проверяет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ой целью исследования PISA является оценка образовательных достижений учащихся 15-летнего возрас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ючевой вопрос исследования – «Обладают ли эти учащиеся, получившие общее обязательное образование, знаниями и умениями, необходимыми им для полноценного функционирования в обществе?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следование направлено не на определение уровня освоения школьных программ, а на оценку </a:t>
            </a:r>
            <a:r>
              <a:rPr b="1" lang="ru-RU" sz="2000" spc="-1" strike="noStrike">
                <a:solidFill>
                  <a:srgbClr val="6600cc"/>
                </a:solidFill>
                <a:latin typeface="Tahoma"/>
              </a:rPr>
              <a:t>способности учащихся применять полученные в школе знания и умения в жизнен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этом отражаются современные тенденции в оценке образовательных достижени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6600cc"/>
                </a:solidFill>
                <a:latin typeface="Tahoma"/>
              </a:rPr>
              <a:t>То есть </a:t>
            </a:r>
            <a:r>
              <a:rPr b="1" i="1" lang="en-US" sz="2400" spc="-1" strike="noStrike">
                <a:solidFill>
                  <a:srgbClr val="6600cc"/>
                </a:solidFill>
                <a:latin typeface="Tahoma"/>
              </a:rPr>
              <a:t>PISA </a:t>
            </a:r>
            <a:r>
              <a:rPr b="1" i="1" lang="ru-RU" sz="2400" spc="-1" strike="noStrike">
                <a:solidFill>
                  <a:srgbClr val="6600cc"/>
                </a:solidFill>
                <a:latin typeface="Tahoma"/>
              </a:rPr>
              <a:t>направлена на проверку </a:t>
            </a:r>
            <a:r>
              <a:rPr b="0" lang="ru-RU" sz="2400" spc="-1" strike="noStrike" u="sng">
                <a:solidFill>
                  <a:srgbClr val="e5d093"/>
                </a:solidFill>
                <a:uFillTx/>
                <a:latin typeface="Tahoma"/>
                <a:hlinkClick r:id="rId4" action="ppaction://hlinksldjump"/>
              </a:rPr>
              <a:t>компетентностей</a:t>
            </a:r>
            <a:r>
              <a:rPr b="1" i="1" lang="ru-RU" sz="2400" spc="-1" strike="noStrike">
                <a:solidFill>
                  <a:srgbClr val="6600cc"/>
                </a:solidFill>
                <a:latin typeface="Tahoma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Что собой представляют тесты </a:t>
            </a: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естах PISA учащимся предлагались не типичные учебные задачи по физике, химии или математике, характерные для российской школы, а близкие к реальным проблемные ситуации, связанные с разнообразными аспектами окружающей жизни и требующие для своего решения не только знания основных учебных предметов, но и сформированности общеучебных и интеллектуальных ум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Кто участвует в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следовании PISA в 2006 году приняли участие около 400 тысяч учащихся из 57 стран мира. Эта выборка представляет почти 20 миллионов учащихся 15-летнего возраста этих стра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борка российских учащихся 15-летнего возраста включала 6154 обучающихся из 210 образовательных учреждений 45 регионов России. В нее вошли учащиеся основной и средней школы, которым на момент тестирования исполнилось 15 лет, а также 15-летние учащиеся и студенты образовательных учреждений начального и среднего профессионального образования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Результаты России в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ISA-2006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 всем направлениям исследования PISA-2006 результаты российских учащихся статистически значимо ниже, чем средние международные результаты. Рейтинг российских учащихся среди своих сверстников из 57 стран с учетом ошибки измерения составляет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-38 по естественнонаучной грамотност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-36 по математической грамотности (29-31 в 2003 году из 40 стран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-40 по грамотности чтения (32-34 в 2003 году из 40 стран и 27-29 в 2000 году из 32 стран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 сравнению с результатами предыдущих циклов исследования по математике и естествознанию не произошло существенных изменений, а по чтению результаты стали статистически ниже, чем в 2000 год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Соотношение ключевых компетентностей, грамотностей и умений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19520" y="1981080"/>
            <a:ext cx="3047760" cy="1317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ючевые компетентности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тегории «Интерактивно использовать инструменты взаимодействия со средой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828440" y="3276720"/>
            <a:ext cx="1257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3276720"/>
            <a:ext cx="114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3276720"/>
            <a:ext cx="11430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5909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2584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3886200"/>
            <a:ext cx="2209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тественнонаучная грамо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3809880"/>
            <a:ext cx="23623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ругие предметные грамотности, напр., математическ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3886200"/>
            <a:ext cx="19047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амотность чт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4800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724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24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240" y="281628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886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5181480"/>
            <a:ext cx="2286000" cy="129564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бор предметных компетентностей или ум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5181480"/>
            <a:ext cx="2361960" cy="129564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бор предметных компетентностей или ум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5105520"/>
            <a:ext cx="1676160" cy="106668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бор ум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83536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835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0920" y="761760"/>
            <a:ext cx="8227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Каковы ориентиры в реформировании российского образования? 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Каким мы хотим видеть выпускника школы?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В чем должны состоять основные результаты обучения?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 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тветах на эти вопросы все чаще звучат понятия «ключевые компетентности», «компетентностный подход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80647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Грамотность чтения – умения, овладение которыми свидетельствует о полном понимании текста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2147400"/>
            <a:ext cx="8748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нахождение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для оценки этого умения используются задания, при выполнении которых требуется «пробежать» текст глазами, определить его основные элементы и заняться поисками необходимой единицы информаци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интерпретация текст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учащимся предлагается сравнить и противопоставить заключенную в тексте информацию разного характера, обнаружить в нем доводы в подтверждение выдвинутых тезисов, сделать выводы из сформулированных посылок, вывести заключение о намерении автора или главной мысли текст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рефлексия на содержание или форму текст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учащийся должен связать информацию, обнаруженную в тексте, со знаниями из других источников, оценить утверждения, сделанные в тексте, исходя из своих представлений о мире, найти доводы в защиту своей точки зрения).  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См. зад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000" y="929880"/>
            <a:ext cx="73342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Математическая грамотность – это способность учащихся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96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спознавать проблем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возникающие в окружающей действительности, которые могут быть решены средствами матема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формул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эти проблемы на языке матема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еш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эти проблемы, используя математические факты и мет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анализ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спользованные методы реш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интерпрет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полученные результаты с учетом поставленной проблем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формул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 записывать результаты реш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м. зада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Естественнонаучная грамотность – это способность учащихся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2147400"/>
            <a:ext cx="8424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спознавать проблем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которые могут исследоваться естественнонаучными методами, демонстрируя понимание основных особенностей естественнонаучного исслед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бъяснять или описывать естественнонаучные явл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используя имеющиеся научные знания, и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рогноз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зме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использовать научные доказательства и имеющиеся данны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для получения выводов, их анализа и оценки достовер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м. за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В комплексе умения по всем трем видам грамотности формируют некий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ПЛАН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55280" y="2707920"/>
            <a:ext cx="504036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план действий человека в информационной среде при встрече с проблемой, которую надо решить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0764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В чем мы уступаем?</a:t>
            </a:r>
            <a:br>
              <a:rPr sz="36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(на примере естественнонаучной грамотности)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ссийские учащиеся 15-летнего возраста уступают своим сверстникам из многих стран мира (33-38 место на международной шкале) в способност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осваивать и использовать естественнонаучные знания для приобретения новых знаний, для объяснения естественнонаучных явлений и формулирования вывод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понимать основные особенности естественнонаучных исследовани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демонстрировать осведомленность в том, что естественные науки и технология оказывают влияние на материальную, интеллектуальную и культурную сферы жизни обществ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проявлять активную гражданскую позицию при рассмотрении проблем, связанных с естествознание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1800" spc="-1" strike="noStrike">
                <a:solidFill>
                  <a:srgbClr val="6600cc"/>
                </a:solidFill>
                <a:latin typeface="Tahoma"/>
              </a:rPr>
              <a:t>При этом традиционно сильные стороны российского школьного образования, в значительной степени направленного на формирование основ наук, не могли проявиться в данном исследовании, поскольку оно было направлено на реализацию других задач, в большей степени ориентированных на требования современного информационного обществ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Каких учебных заданий нам не хватает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содержащих большой объем как текстовой информации, так и информации в виде таблиц, диаграмм, графиков, рисунков, схе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составленных на материале из разных предметных областей, для выполнения которых надо интегрировать разные знания и использовать общеучебные ум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в которых неясно, к какой области знаний надо обратиться, чтобы определить способ действий или информацию, необходимые для постановки и решения пробл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требующих привлечения дополнительной информации или, напротив, содержащих избыточную информацию и «лишние данные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лексных и структурированных заданий, состоящих из нескольких взаимосвязанных вопро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Tahoma"/>
              </a:rPr>
              <a:t>Кроме того, если не считать ЕГЭ, наши школьники редко сталкиваются с необходимостью выполнения в одной работе за ограниченное время большого числа заданий разной тематики и разного формата, требующих разных форм записи ответа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опрос из анкеты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для учащихся: «Как часто на уроках происходит следующее?»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мся дают возможность объяснить свои иде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еся выполняют лабораторные или практическ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т учащихся требуют спланировать, как какой-либо естественнонаучный вопрос можно исследовать в ходе эксперимен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еся должны применить естественнонаучные знания для решения проблем, взятых из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ках используются мнения учащихся об изучаемом разделе или те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хся просят сформулировать выводы на основе проведенных ими экспериментов, лабораторных или практических рабо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мся разрешается планировать свои собственные исследования или эксперимен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ках проводятся обсуждения или дискусс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Что делать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ключение в стандарт нового поколения требований компетентностного характера и создание новых учебно-методических комплексов под этот стандар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ключение заданий компетнтностного типа в аттестационные материалы (в т.ч. ЕГЭ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менение стиля преподавания, а значит и содержания подготовки учит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ка инновационных образовательных программ ОУ, направленных на формирование ключевых компетентностей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24000" y="112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 Средние результаты (в баллах) пяти стран по грамотности ч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187280" y="2492280"/>
          <a:ext cx="6985080" cy="2800440"/>
        </p:xfrm>
        <a:graphic>
          <a:graphicData uri="http://schemas.openxmlformats.org/drawingml/2006/table">
            <a:tbl>
              <a:tblPr/>
              <a:tblGrid>
                <a:gridCol w="1622520"/>
                <a:gridCol w="1838520"/>
                <a:gridCol w="1838160"/>
                <a:gridCol w="168588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50920" y="11952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. Средние результаты пяти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ческой грамо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332000" y="2492280"/>
          <a:ext cx="6696000" cy="2733840"/>
        </p:xfrm>
        <a:graphic>
          <a:graphicData uri="http://schemas.openxmlformats.org/drawingml/2006/table">
            <a:tbl>
              <a:tblPr/>
              <a:tblGrid>
                <a:gridCol w="1584360"/>
                <a:gridCol w="1736640"/>
                <a:gridCol w="164772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Компетенции: от требований бизнеса к целям образования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евые компетенции как противопоставление специальным знаниям и уме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евые компетенции как универсальные составляющие любо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евые компетенции как наиболее общие способности и умения, помогающие человеку ориентироваться и достигать результатов в ситуациях профессиональной, личной и общественной жиз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042920" y="11952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. Средние результаты пяти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стественнонаучной грамо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619280" y="2492280"/>
          <a:ext cx="6553080" cy="273384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655640"/>
                <a:gridCol w="172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Спасибо за внимание!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357336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риалы по исследованию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м. на сайте Центра оценки качества образования РА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centeroko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4"/>
              </a:rPr>
              <a:t>r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Кто определяет ключевые компетенции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60692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ение и отбор ключевых компетенций осуществляется основными потребителями образовательных результатов на основе социологических исследований и общественного обсуждения и зависит от того, какие способности и качества человека признаются ценными в данное время, в данном обществ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166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Ключевые компетентности, предложенные Советом Европы в 1996 году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итические и социальные компетент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акие как способность принимать ответственность, участвовать в принятии групповых решений, разрешать конфликты ненасильственно, участвовать в поддержании и улучшении демократических институ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етентности, связанные с жизнью в многокультурном обществ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принятие различий между людьми, уважение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други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и способность жить с людьми других культур, языков и религ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етентности, относящиеся к владению устной и письменной коммуникаци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торые особенно важны для работы и социальной жизни, поскольку людям, которые не владеют ими, угрожает социальная изоляция. При этом все большее значение приобретает владение хотя бы одним иностранным язы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етентности, связанные с возрастанием информатизации обществ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Это включает в себя: владени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понимание области их применения, сильных    и слабых сторон, а также способность                 к критическому суждению в отношении той информации, которая распространяется СМИ и рекламо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пособность учиться на протяжении жизн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торая является основой непрерывного образования, необходимого как для профессионального роста, так и в личной и социальной жизни.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Ключевые компетентности (Европа 2005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щение на родном язы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щение на иностранных язы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ематическая компетентность и базовые компетентности в области естественных наук и технолог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C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компетент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мение учи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личностная, межкультурная, социальная и гражданская компетент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риимчив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ультурная компетент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6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Ключевые компетентности для успешной жизни </a:t>
            </a:r>
            <a:br>
              <a:rPr sz="2800"/>
            </a:b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и эффективно функционирующего общества</a:t>
            </a:r>
            <a:br>
              <a:rPr sz="2400"/>
            </a:b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(проект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DeSeCo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«Определение и отбор ключевых компетентностей»,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OECD-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2003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191120"/>
            <a:ext cx="30477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Действовать     самостоятельно (автоном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2666880"/>
            <a:ext cx="327636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Unicode MS"/>
                <a:ea typeface="Arial Unicode MS"/>
              </a:rPr>
              <a:t>Взаимодействовать с людь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Unicode MS"/>
                <a:ea typeface="Arial Unicode MS"/>
              </a:rPr>
              <a:t>в неоднород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Unicode MS"/>
                <a:ea typeface="Arial Unicode MS"/>
              </a:rPr>
              <a:t>по составу групп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2666880"/>
            <a:ext cx="30477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Использовать  инструменты взаимодействия со средой (язык, знания, ИТ и д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014560"/>
            <a:ext cx="9144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014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Ключевые компетентности для успешной жизни </a:t>
            </a:r>
            <a:br>
              <a:rPr sz="2800"/>
            </a:b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и эффективно функционирующего общества</a:t>
            </a:r>
            <a:br>
              <a:rPr sz="2400"/>
            </a:b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(проект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DeSeCo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«Определение и отбор ключевых компетентностей»,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OECD-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2003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4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рактивно использовать инструменты взаимодействия со средо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интерактивно использовать язык, символы и тексты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интерактивно использовать знания и информацию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интерактивно использовать 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ункционировать в социально неоднородных группа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строить отношения с другими людьм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к сотрудничеству, работе в команд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разрешать конфлик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йствовать автоном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действовать, учитывая широкий контекс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строить и осуществлять жизненные планы и проект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сознавать и отстаивать свои права, интересы, обязанности и потребнос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496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Существует множество «наборов» ключевых компетентностей. 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На каком из них остановиться?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491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говор о ключевых компетентностях имеет отношение к реальному образованию, только если можно ответить на вопрос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Какими способами формируются компетентно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И как они «измеряются»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7874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9:06:39Z</dcterms:created>
  <dc:creator>pentin</dc:creator>
  <dc:description/>
  <dc:language>en-US</dc:language>
  <cp:lastModifiedBy>pentin</cp:lastModifiedBy>
  <dcterms:modified xsi:type="dcterms:W3CDTF">2010-11-29T17:17:39Z</dcterms:modified>
  <cp:revision>108</cp:revision>
  <dc:subject/>
  <dc:title>Конкурс лучших учителей</dc:title>
</cp:coreProperties>
</file>