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9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media/image28.png" ContentType="image/png"/>
  <Override PartName="/ppt/media/image26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5.png" ContentType="image/png"/>
  <Override PartName="/ppt/media/image3.jpeg" ContentType="image/jpeg"/>
  <Override PartName="/ppt/media/image30.png" ContentType="image/png"/>
  <Override PartName="/ppt/media/image5.jpeg" ContentType="image/jpeg"/>
  <Override PartName="/ppt/media/image29.png" ContentType="image/png"/>
  <Override PartName="/ppt/media/image6.png" ContentType="image/png"/>
  <Override PartName="/ppt/media/image36.png" ContentType="image/png"/>
  <Override PartName="/ppt/media/image35.png" ContentType="image/png"/>
  <Override PartName="/ppt/media/image38.png" ContentType="image/png"/>
  <Override PartName="/ppt/media/image41.png" ContentType="image/png"/>
  <Override PartName="/ppt/media/image42.png" ContentType="image/png"/>
  <Override PartName="/ppt/media/image31.png" ContentType="image/png"/>
  <Override PartName="/ppt/media/image43.png" ContentType="image/png"/>
  <Override PartName="/ppt/media/image32.png" ContentType="image/png"/>
  <Override PartName="/ppt/media/image1.jpeg" ContentType="image/jpeg"/>
  <Override PartName="/ppt/media/image44.png" ContentType="image/png"/>
  <Override PartName="/ppt/media/image33.png" ContentType="image/png"/>
  <Override PartName="/ppt/media/image45.png" ContentType="image/png"/>
  <Override PartName="/ppt/media/image34.png" ContentType="image/png"/>
  <Override PartName="/ppt/media/image39.png" ContentType="image/png"/>
  <Override PartName="/ppt/media/image9.png" ContentType="image/png"/>
  <Override PartName="/ppt/media/image46.png" ContentType="image/png"/>
  <Override PartName="/ppt/media/image49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12.wmf" ContentType="image/x-wmf"/>
  <Override PartName="/ppt/media/image27.png" ContentType="image/png"/>
  <Override PartName="/ppt/media/image7.png" ContentType="image/png"/>
  <Override PartName="/ppt/media/image37.png" ContentType="image/png"/>
  <Override PartName="/ppt/media/image47.wmf" ContentType="image/x-wmf"/>
  <Override PartName="/ppt/media/image10.wmf" ContentType="image/x-wmf"/>
  <Override PartName="/ppt/media/image40.png" ContentType="image/png"/>
  <Override PartName="/ppt/media/image8.wmf" ContentType="image/x-wmf"/>
  <Override PartName="/ppt/media/image4.jpeg" ContentType="image/jpeg"/>
  <Override PartName="/ppt/media/image25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</p:sldIdLst>
  <p:sldSz cx="9144000" cy="6858000"/>
  <p:notesSz cx="6789738" cy="99139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0"/>
            <a:ext cx="6789600" cy="9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15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13"/>
          </p:nvPr>
        </p:nvSpPr>
        <p:spPr>
          <a:xfrm>
            <a:off x="3844800" y="0"/>
            <a:ext cx="29419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sldImg"/>
          </p:nvPr>
        </p:nvSpPr>
        <p:spPr>
          <a:xfrm>
            <a:off x="915840" y="742680"/>
            <a:ext cx="4957920" cy="3717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body"/>
          </p:nvPr>
        </p:nvSpPr>
        <p:spPr>
          <a:xfrm>
            <a:off x="679320" y="4708440"/>
            <a:ext cx="542952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ftr" idx="14"/>
          </p:nvPr>
        </p:nvSpPr>
        <p:spPr>
          <a:xfrm>
            <a:off x="-360" y="9416880"/>
            <a:ext cx="29415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 type="sldNum" idx="15"/>
          </p:nvPr>
        </p:nvSpPr>
        <p:spPr>
          <a:xfrm>
            <a:off x="3844800" y="9416880"/>
            <a:ext cx="29419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7C00F-2945-4D47-A600-6208DCEC52F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915840" y="743040"/>
            <a:ext cx="4957920" cy="371772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79320" y="4708440"/>
            <a:ext cx="542952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Номер слайда 3"/>
          <p:cNvSpPr/>
          <p:nvPr/>
        </p:nvSpPr>
        <p:spPr>
          <a:xfrm>
            <a:off x="3844800" y="9416880"/>
            <a:ext cx="29419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BC3BA-1AE2-4E55-9835-DDE757CE2D78}" type="slidenum">
              <a:rPr b="0" lang="ru-RU" sz="1200" spc="-1" strike="noStrike">
                <a:solidFill>
                  <a:srgbClr val="205ff6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915840" y="743040"/>
            <a:ext cx="4957920" cy="371772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79320" y="4708440"/>
            <a:ext cx="542952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Номер слайда 3"/>
          <p:cNvSpPr/>
          <p:nvPr/>
        </p:nvSpPr>
        <p:spPr>
          <a:xfrm>
            <a:off x="3844800" y="9416880"/>
            <a:ext cx="29419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6531F-1FDB-4964-9CAE-D9C865F067B0}" type="slidenum">
              <a:rPr b="0" lang="ru-RU" sz="1200" spc="-1" strike="noStrike">
                <a:solidFill>
                  <a:srgbClr val="205ff6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915840" y="743040"/>
            <a:ext cx="4957920" cy="371772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79320" y="4708440"/>
            <a:ext cx="542952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Номер слайда 3"/>
          <p:cNvSpPr/>
          <p:nvPr/>
        </p:nvSpPr>
        <p:spPr>
          <a:xfrm>
            <a:off x="3844800" y="9416880"/>
            <a:ext cx="29419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C7BC1-5802-479A-A17B-37C6EAAA5345}" type="slidenum">
              <a:rPr b="0" lang="ru-RU" sz="1200" spc="-1" strike="noStrike">
                <a:solidFill>
                  <a:srgbClr val="205ff6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915840" y="743040"/>
            <a:ext cx="4957920" cy="371772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79320" y="4708440"/>
            <a:ext cx="542952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Номер слайда 3"/>
          <p:cNvSpPr/>
          <p:nvPr/>
        </p:nvSpPr>
        <p:spPr>
          <a:xfrm>
            <a:off x="3844800" y="9416880"/>
            <a:ext cx="29419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92EAE-3240-44C2-B41E-83D64774D9B7}" type="slidenum">
              <a:rPr b="0" lang="ru-RU" sz="1200" spc="-1" strike="noStrike">
                <a:solidFill>
                  <a:srgbClr val="205ff6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915840" y="743040"/>
            <a:ext cx="4957920" cy="371772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79320" y="4708440"/>
            <a:ext cx="542952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Номер слайда 3"/>
          <p:cNvSpPr/>
          <p:nvPr/>
        </p:nvSpPr>
        <p:spPr>
          <a:xfrm>
            <a:off x="3844800" y="9416880"/>
            <a:ext cx="29419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DD3F7-DCE7-4D91-84A8-0BE0341D331C}" type="slidenum">
              <a:rPr b="0" lang="ru-RU" sz="1200" spc="-1" strike="noStrike">
                <a:solidFill>
                  <a:srgbClr val="205ff6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915840" y="743040"/>
            <a:ext cx="4957920" cy="371772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79320" y="4708440"/>
            <a:ext cx="542952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Номер слайда 3"/>
          <p:cNvSpPr/>
          <p:nvPr/>
        </p:nvSpPr>
        <p:spPr>
          <a:xfrm>
            <a:off x="3844800" y="9416880"/>
            <a:ext cx="29419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CC067-8675-472C-ABA4-6EAD71112A8C}" type="slidenum">
              <a:rPr b="0" lang="ru-RU" sz="1200" spc="-1" strike="noStrike">
                <a:solidFill>
                  <a:srgbClr val="205ff6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915840" y="743040"/>
            <a:ext cx="4957920" cy="371772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79320" y="4708440"/>
            <a:ext cx="542952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Номер слайда 3"/>
          <p:cNvSpPr/>
          <p:nvPr/>
        </p:nvSpPr>
        <p:spPr>
          <a:xfrm>
            <a:off x="3844800" y="9416880"/>
            <a:ext cx="29419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89507-07E3-4918-B59B-DE267C2F70D8}" type="slidenum">
              <a:rPr b="0" lang="ru-RU" sz="1200" spc="-1" strike="noStrike">
                <a:solidFill>
                  <a:srgbClr val="205ff6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915840" y="743040"/>
            <a:ext cx="4957920" cy="371772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79320" y="4708440"/>
            <a:ext cx="542952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Номер слайда 3"/>
          <p:cNvSpPr/>
          <p:nvPr/>
        </p:nvSpPr>
        <p:spPr>
          <a:xfrm>
            <a:off x="3844800" y="9416880"/>
            <a:ext cx="29419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886C5-71CB-4B5F-8BCB-514A49288BDA}" type="slidenum">
              <a:rPr b="0" lang="ru-RU" sz="1200" spc="-1" strike="noStrike">
                <a:solidFill>
                  <a:srgbClr val="205ff6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D0A53-D0F2-4C1A-94D6-94FE98D01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42560" y="1600200"/>
            <a:ext cx="7643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42560" y="3964320"/>
            <a:ext cx="7643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AEE1C-A190-4B66-855F-946EDD25B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42560" y="1600200"/>
            <a:ext cx="372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59360" y="1600200"/>
            <a:ext cx="372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42560" y="3964320"/>
            <a:ext cx="372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59360" y="3964320"/>
            <a:ext cx="372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86716-3616-4CC2-9963-8A93E9911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42560" y="1600200"/>
            <a:ext cx="246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27000" y="1600200"/>
            <a:ext cx="246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11440" y="1600200"/>
            <a:ext cx="246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42560" y="3964320"/>
            <a:ext cx="246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27000" y="3964320"/>
            <a:ext cx="246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11440" y="3964320"/>
            <a:ext cx="246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75020-C794-417D-9C15-4DFE349A2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1F79B2-BE8C-4B49-85CA-A612B971B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042560" y="1600200"/>
            <a:ext cx="76438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A7575E-1C88-4E5A-AF1B-2FDF01B46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42560" y="1600200"/>
            <a:ext cx="7643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42227B-C1C1-470E-A1E0-9D85411C6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42560" y="1600200"/>
            <a:ext cx="3729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59360" y="1600200"/>
            <a:ext cx="3729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19550E-4163-4C6D-B485-A880B92B4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0DE109-09D5-4F91-ABE5-A83098BE3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BF19E3-9566-49D5-8659-9D733A547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42560" y="1600200"/>
            <a:ext cx="372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59360" y="1600200"/>
            <a:ext cx="3729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42560" y="3964320"/>
            <a:ext cx="372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5DC806-72EF-4CC4-97D5-4696F1BFF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42560" y="1600200"/>
            <a:ext cx="76438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EB189-3286-47D0-AE55-C6A874193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42560" y="1600200"/>
            <a:ext cx="3729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59360" y="1600200"/>
            <a:ext cx="372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959360" y="3964320"/>
            <a:ext cx="372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84C763-B01C-4144-B741-23E227E8D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42560" y="1600200"/>
            <a:ext cx="372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59360" y="1600200"/>
            <a:ext cx="372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042560" y="3964320"/>
            <a:ext cx="7643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C75EDF-7B92-4F3E-A22F-BD7DB435A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42560" y="1600200"/>
            <a:ext cx="7643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042560" y="3964320"/>
            <a:ext cx="7643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2ED823-FF3E-41DD-93BF-B437771FD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42560" y="1600200"/>
            <a:ext cx="372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59360" y="1600200"/>
            <a:ext cx="372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42560" y="3964320"/>
            <a:ext cx="372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959360" y="3964320"/>
            <a:ext cx="372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862AE0-9570-4EBB-A636-AC8ABA75F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42560" y="1600200"/>
            <a:ext cx="246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627000" y="1600200"/>
            <a:ext cx="246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11440" y="1600200"/>
            <a:ext cx="246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042560" y="3964320"/>
            <a:ext cx="246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627000" y="3964320"/>
            <a:ext cx="246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11440" y="3964320"/>
            <a:ext cx="246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89A999-69D6-43D7-8AF6-12EDC5781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82CFA1-B956-4FA7-A601-0D9FA5449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042560" y="1600200"/>
            <a:ext cx="76438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FDEDDD-3D76-4DDC-8CEA-C0F153DB4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42560" y="1600200"/>
            <a:ext cx="7643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59843C-A544-40F9-BD39-1891EC017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42560" y="1600200"/>
            <a:ext cx="3729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959360" y="1600200"/>
            <a:ext cx="3729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ABDEF0-2F2D-4C4C-8A59-96702EC0A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CAFA00-1D5D-4D64-BA95-2C05F428F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42560" y="1600200"/>
            <a:ext cx="7643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14215-E9CA-49FE-93BD-6A8201FBF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E0D4A5-825F-4254-B0A5-08967CC00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42560" y="1600200"/>
            <a:ext cx="372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959360" y="1600200"/>
            <a:ext cx="3729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042560" y="3964320"/>
            <a:ext cx="372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E480B1-C9DA-426A-956F-60ED35A78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42560" y="1600200"/>
            <a:ext cx="3729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959360" y="1600200"/>
            <a:ext cx="372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959360" y="3964320"/>
            <a:ext cx="372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1A5185-DE2C-4199-98EB-A34E9894F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42560" y="1600200"/>
            <a:ext cx="372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959360" y="1600200"/>
            <a:ext cx="372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042560" y="3964320"/>
            <a:ext cx="7643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44F69D-E134-4A1F-B14A-7026BA546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42560" y="1600200"/>
            <a:ext cx="7643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042560" y="3964320"/>
            <a:ext cx="7643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6B00B2-9E13-4DA1-ABFE-FEDE9E0B3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42560" y="1600200"/>
            <a:ext cx="372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959360" y="1600200"/>
            <a:ext cx="372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042560" y="3964320"/>
            <a:ext cx="372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959360" y="3964320"/>
            <a:ext cx="372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24AEDA-31E3-4318-936B-1DCF355E3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42560" y="1600200"/>
            <a:ext cx="246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627000" y="1600200"/>
            <a:ext cx="246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211440" y="1600200"/>
            <a:ext cx="246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042560" y="3964320"/>
            <a:ext cx="246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627000" y="3964320"/>
            <a:ext cx="246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211440" y="3964320"/>
            <a:ext cx="246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217751-5799-4E97-86AB-7B64B6AB8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8C6E11-D25A-48F3-8859-500E3393C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1042560" y="1600200"/>
            <a:ext cx="76438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AE7B78-BBD9-4FF8-AE56-E6E1EBC8B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42560" y="1600200"/>
            <a:ext cx="7643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2AE6B4-0434-4954-8D68-5D5A1C30D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42560" y="1600200"/>
            <a:ext cx="3729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59360" y="1600200"/>
            <a:ext cx="3729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224CA-E8D1-4247-9132-C6264000F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042560" y="1600200"/>
            <a:ext cx="3729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959360" y="1600200"/>
            <a:ext cx="3729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5EF8AC-C1D4-4963-947D-69AC34C92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D38734-E1AC-490E-8459-7F548B528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25AFA8-1AA0-4597-AB09-277880531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42560" y="1600200"/>
            <a:ext cx="372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959360" y="1600200"/>
            <a:ext cx="3729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1042560" y="3964320"/>
            <a:ext cx="372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659D2B-6CEF-410F-90DD-6E7AE22BF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042560" y="1600200"/>
            <a:ext cx="3729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959360" y="1600200"/>
            <a:ext cx="372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959360" y="3964320"/>
            <a:ext cx="372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8B2886-DD79-426C-BB57-80E51D538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42560" y="1600200"/>
            <a:ext cx="372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959360" y="1600200"/>
            <a:ext cx="372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1042560" y="3964320"/>
            <a:ext cx="7643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6AE554-658C-4FAD-9F41-6B2BD390E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042560" y="1600200"/>
            <a:ext cx="7643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1042560" y="3964320"/>
            <a:ext cx="7643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51981D-DDA1-424D-830B-BE608317F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42560" y="1600200"/>
            <a:ext cx="372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959360" y="1600200"/>
            <a:ext cx="372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1042560" y="3964320"/>
            <a:ext cx="372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959360" y="3964320"/>
            <a:ext cx="372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1794FE-0EDA-48EA-A603-ABFA3BC70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042560" y="1600200"/>
            <a:ext cx="246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627000" y="1600200"/>
            <a:ext cx="246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211440" y="1600200"/>
            <a:ext cx="246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1042560" y="3964320"/>
            <a:ext cx="246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627000" y="3964320"/>
            <a:ext cx="246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211440" y="3964320"/>
            <a:ext cx="246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9F8020-027E-4BCA-94FD-08611FD4F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6DCAC-FEC8-4A43-AF37-2A118D580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8AC22-C894-488C-80BA-B2425E597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42560" y="1600200"/>
            <a:ext cx="372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59360" y="1600200"/>
            <a:ext cx="3729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42560" y="3964320"/>
            <a:ext cx="372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43F23-7AE3-4098-8FA0-FB1AC7224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42560" y="1600200"/>
            <a:ext cx="3729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59360" y="1600200"/>
            <a:ext cx="372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59360" y="3964320"/>
            <a:ext cx="372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23A89-E21C-4E9C-A560-FBCD7ECEF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42560" y="1600200"/>
            <a:ext cx="372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59360" y="1600200"/>
            <a:ext cx="372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42560" y="3964320"/>
            <a:ext cx="7643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9386F-19D9-490C-A4BF-71E179D47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5336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81080" y="6453360"/>
            <a:ext cx="289548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40360" y="6453360"/>
            <a:ext cx="5396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1F0A0-4A12-4E4F-87E1-E3C8F61D5FBD}" type="slidenum"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2133360"/>
            <a:ext cx="7772400" cy="33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Num" idx="4"/>
          </p:nvPr>
        </p:nvSpPr>
        <p:spPr>
          <a:xfrm>
            <a:off x="8100720" y="6244920"/>
            <a:ext cx="585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8BFBB-F358-41A7-89DF-0EF777E17563}" type="slidenum"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1042560" y="1600200"/>
            <a:ext cx="7643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27A0A-68E1-43AD-89C1-C3F22DF5B4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82315-2ECE-4457-B5FF-FFD2A90C0C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0" y="1700280"/>
            <a:ext cx="9144000" cy="6858000"/>
            <a:chOff x="0" y="1700280"/>
            <a:chExt cx="9144000" cy="6858000"/>
          </a:xfrm>
        </p:grpSpPr>
        <p:pic>
          <p:nvPicPr>
            <p:cNvPr id="129" name="" descr=""/>
            <p:cNvPicPr/>
            <p:nvPr/>
          </p:nvPicPr>
          <p:blipFill>
            <a:blip r:embed="rId3"/>
            <a:stretch/>
          </p:blipFill>
          <p:spPr>
            <a:xfrm>
              <a:off x="0" y="170028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 txBox="1"/>
            <p:nvPr/>
          </p:nvSpPr>
          <p:spPr>
            <a:xfrm>
              <a:off x="395280" y="4799160"/>
              <a:ext cx="2089080" cy="761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13657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6699">
                      <a:alpha val="50000"/>
                    </a:srgbClr>
                  </a:solidFill>
                  <a:latin typeface="Impact"/>
                </a:rPr>
                <a:t>PISA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99">
                    <a:alpha val="50000"/>
                  </a:srgbClr>
                </a:solidFill>
                <a:latin typeface="Impact"/>
                <a:ea typeface="Impact"/>
              </a:endParaRPr>
            </a:p>
          </p:txBody>
        </p:sp>
        <p:sp>
          <p:nvSpPr>
            <p:cNvPr id="131" name=""/>
            <p:cNvSpPr txBox="1"/>
            <p:nvPr/>
          </p:nvSpPr>
          <p:spPr>
            <a:xfrm>
              <a:off x="395280" y="5807160"/>
              <a:ext cx="2089080" cy="761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13657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6699">
                      <a:alpha val="50000"/>
                    </a:srgbClr>
                  </a:solidFill>
                  <a:latin typeface="Impact"/>
                </a:rPr>
                <a:t>OECD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99">
                    <a:alpha val="50000"/>
                  </a:srgbClr>
                </a:solidFill>
                <a:latin typeface="Impact"/>
                <a:ea typeface="Impact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2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2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image" Target="../media/image24.png"/><Relationship Id="rId9" Type="http://schemas.openxmlformats.org/officeDocument/2006/relationships/image" Target="../media/image25.png"/><Relationship Id="rId10" Type="http://schemas.openxmlformats.org/officeDocument/2006/relationships/image" Target="../media/image26.png"/><Relationship Id="rId11" Type="http://schemas.openxmlformats.org/officeDocument/2006/relationships/image" Target="../media/image27.png"/><Relationship Id="rId12" Type="http://schemas.openxmlformats.org/officeDocument/2006/relationships/image" Target="../media/image28.png"/><Relationship Id="rId13" Type="http://schemas.openxmlformats.org/officeDocument/2006/relationships/image" Target="../media/image29.png"/><Relationship Id="rId14" Type="http://schemas.openxmlformats.org/officeDocument/2006/relationships/image" Target="../media/image30.png"/><Relationship Id="rId15" Type="http://schemas.openxmlformats.org/officeDocument/2006/relationships/image" Target="../media/image31.png"/><Relationship Id="rId16" Type="http://schemas.openxmlformats.org/officeDocument/2006/relationships/image" Target="../media/image32.png"/><Relationship Id="rId17" Type="http://schemas.openxmlformats.org/officeDocument/2006/relationships/image" Target="../media/image33.png"/><Relationship Id="rId18" Type="http://schemas.openxmlformats.org/officeDocument/2006/relationships/image" Target="../media/image34.png"/><Relationship Id="rId19" Type="http://schemas.openxmlformats.org/officeDocument/2006/relationships/image" Target="../media/image35.png"/><Relationship Id="rId20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2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image" Target="../media/image42.png"/><Relationship Id="rId4" Type="http://schemas.openxmlformats.org/officeDocument/2006/relationships/image" Target="../media/image43.png"/><Relationship Id="rId5" Type="http://schemas.openxmlformats.org/officeDocument/2006/relationships/slideLayout" Target="../slideLayouts/slideLayout3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2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2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7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http://www.oecd.org/edu/pisa" TargetMode="External"/><Relationship Id="rId2" Type="http://schemas.openxmlformats.org/officeDocument/2006/relationships/hyperlink" Target="http://www.oecd.org/edu/pisa" TargetMode="External"/><Relationship Id="rId3" Type="http://schemas.openxmlformats.org/officeDocument/2006/relationships/hyperlink" Target="http://www.oecd.org/edu/pisa" TargetMode="External"/><Relationship Id="rId4" Type="http://schemas.openxmlformats.org/officeDocument/2006/relationships/hyperlink" Target="http://www.oecd.org/edu/pisa" TargetMode="External"/><Relationship Id="rId5" Type="http://schemas.openxmlformats.org/officeDocument/2006/relationships/hyperlink" Target="http://www.oecd.org/edu/pisa" TargetMode="External"/><Relationship Id="rId6" Type="http://schemas.openxmlformats.org/officeDocument/2006/relationships/hyperlink" Target="http://www.oecd.org/edu/pisa" TargetMode="External"/><Relationship Id="rId7" Type="http://schemas.openxmlformats.org/officeDocument/2006/relationships/hyperlink" Target="http://www.oecd.org/edu/pisa" TargetMode="External"/><Relationship Id="rId8" Type="http://schemas.openxmlformats.org/officeDocument/2006/relationships/hyperlink" Target="http://www.oecd.org/edu/pisa" TargetMode="External"/><Relationship Id="rId9" Type="http://schemas.openxmlformats.org/officeDocument/2006/relationships/hyperlink" Target="http://www.oecd.org/edu/pisa" TargetMode="External"/><Relationship Id="rId10" Type="http://schemas.openxmlformats.org/officeDocument/2006/relationships/hyperlink" Target="http://www.acer.edu.au/" TargetMode="External"/><Relationship Id="rId11" Type="http://schemas.openxmlformats.org/officeDocument/2006/relationships/hyperlink" Target="http://www.acer.edu.au/" TargetMode="External"/><Relationship Id="rId12" Type="http://schemas.openxmlformats.org/officeDocument/2006/relationships/hyperlink" Target="http://www.acer.edu.au/" TargetMode="External"/><Relationship Id="rId13" Type="http://schemas.openxmlformats.org/officeDocument/2006/relationships/hyperlink" Target="http://www.acer.edu.au/" TargetMode="External"/><Relationship Id="rId14" Type="http://schemas.openxmlformats.org/officeDocument/2006/relationships/hyperlink" Target="http://www.acer.edu.au/" TargetMode="External"/><Relationship Id="rId15" Type="http://schemas.openxmlformats.org/officeDocument/2006/relationships/hyperlink" Target="http://www.acer.edu.au/" TargetMode="External"/><Relationship Id="rId16" Type="http://schemas.openxmlformats.org/officeDocument/2006/relationships/hyperlink" Target="http://www.acer.edu.au/" TargetMode="External"/><Relationship Id="rId17" Type="http://schemas.openxmlformats.org/officeDocument/2006/relationships/hyperlink" Target="http://www.acer.edu.au/" TargetMode="External"/><Relationship Id="rId18" Type="http://schemas.openxmlformats.org/officeDocument/2006/relationships/hyperlink" Target="http://www.acer.edu.au/" TargetMode="External"/><Relationship Id="rId19" Type="http://schemas.openxmlformats.org/officeDocument/2006/relationships/hyperlink" Target="http://www.acer.edu.au/" TargetMode="External"/><Relationship Id="rId20" Type="http://schemas.openxmlformats.org/officeDocument/2006/relationships/hyperlink" Target="http://www.centeroko.ru/" TargetMode="External"/><Relationship Id="rId21" Type="http://schemas.openxmlformats.org/officeDocument/2006/relationships/hyperlink" Target="http://www.centeroko.ru/" TargetMode="External"/><Relationship Id="rId22" Type="http://schemas.openxmlformats.org/officeDocument/2006/relationships/hyperlink" Target="http://www.centeroko.ru/" TargetMode="External"/><Relationship Id="rId23" Type="http://schemas.openxmlformats.org/officeDocument/2006/relationships/hyperlink" Target="http://www.centeroko.ru/" TargetMode="External"/><Relationship Id="rId24" Type="http://schemas.openxmlformats.org/officeDocument/2006/relationships/hyperlink" Target="http://www.centeroko.ru/" TargetMode="External"/><Relationship Id="rId25" Type="http://schemas.openxmlformats.org/officeDocument/2006/relationships/hyperlink" Target="http://www.centeroko.ru/" TargetMode="External"/><Relationship Id="rId26" Type="http://schemas.openxmlformats.org/officeDocument/2006/relationships/hyperlink" Target="http://www.centeroko.ru/" TargetMode="External"/><Relationship Id="rId27" Type="http://schemas.openxmlformats.org/officeDocument/2006/relationships/hyperlink" Target="http://www.centeroko.ru/" TargetMode="External"/><Relationship Id="rId28" Type="http://schemas.openxmlformats.org/officeDocument/2006/relationships/hyperlink" Target="mailto:centeroko@mail.ru" TargetMode="External"/><Relationship Id="rId29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00000" y="1196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Первые результаты международной программы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ISA-2009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2556000" y="3068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Москва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 декабря 2010 года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зменение положения российских учащихся по читательской грамотности среди 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тран-участниц программы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ISA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1104840" y="1341360"/>
          <a:ext cx="7643880" cy="4896000"/>
        </p:xfrm>
        <a:graphic>
          <a:graphicData uri="http://schemas.openxmlformats.org/drawingml/2006/table">
            <a:tbl>
              <a:tblPr/>
              <a:tblGrid>
                <a:gridCol w="2170080"/>
                <a:gridCol w="1436760"/>
                <a:gridCol w="1295280"/>
                <a:gridCol w="1220760"/>
                <a:gridCol w="1521000"/>
              </a:tblGrid>
              <a:tr h="393840">
                <a:tc>
                  <a:txBody>
                    <a:bodyPr lIns="36000" rIns="36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9360">
                      <a:solidFill>
                        <a:srgbClr val="6633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000 год</a:t>
                      </a:r>
                      <a:endParaRPr b="0" lang="en-US" sz="14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663300"/>
                      </a:solidFill>
                    </a:lnT>
                    <a:lnB w="9360">
                      <a:solidFill>
                        <a:srgbClr val="663300"/>
                      </a:solidFill>
                    </a:lnB>
                    <a:solidFill>
                      <a:srgbClr val="663300"/>
                    </a:solidFill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003 год</a:t>
                      </a:r>
                      <a:endParaRPr b="0" lang="en-US" sz="14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663300"/>
                      </a:solidFill>
                    </a:lnT>
                    <a:lnB w="9360">
                      <a:solidFill>
                        <a:srgbClr val="663300"/>
                      </a:solidFill>
                    </a:lnB>
                    <a:solidFill>
                      <a:srgbClr val="663300"/>
                    </a:solidFill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006 год</a:t>
                      </a:r>
                      <a:endParaRPr b="0" lang="en-US" sz="14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663300"/>
                      </a:solidFill>
                    </a:lnT>
                    <a:lnB w="9360">
                      <a:solidFill>
                        <a:srgbClr val="663300"/>
                      </a:solidFill>
                    </a:lnB>
                    <a:solidFill>
                      <a:srgbClr val="663300"/>
                    </a:solidFill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009 год</a:t>
                      </a:r>
                      <a:endParaRPr b="0" lang="en-US" sz="14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663300"/>
                      </a:solidFill>
                    </a:lnT>
                    <a:lnB w="9360">
                      <a:solidFill>
                        <a:srgbClr val="663300"/>
                      </a:solidFill>
                    </a:lnB>
                    <a:solidFill>
                      <a:srgbClr val="663300"/>
                    </a:solidFill>
                  </a:tcPr>
                </a:tc>
              </a:tr>
              <a:tr h="331560">
                <a:tc>
                  <a:txBody>
                    <a:bodyPr lIns="36000" rIns="36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333300"/>
                          </a:solidFill>
                          <a:latin typeface="Verdana"/>
                        </a:rPr>
                        <a:t>Число стран</a:t>
                      </a:r>
                      <a:endParaRPr b="0" lang="en-US" sz="13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663300"/>
                      </a:solidFill>
                    </a:lnT>
                    <a:lnB w="9360">
                      <a:solidFill>
                        <a:srgbClr val="663300"/>
                      </a:solidFill>
                    </a:lnB>
                    <a:solidFill>
                      <a:srgbClr val="ffcc99">
                        <a:alpha val="50000"/>
                      </a:srgbClr>
                    </a:solidFill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2</a:t>
                      </a:r>
                      <a:endParaRPr b="0" lang="en-US" sz="13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663300"/>
                      </a:solidFill>
                    </a:lnT>
                    <a:lnB w="9360">
                      <a:solidFill>
                        <a:srgbClr val="6633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0</a:t>
                      </a:r>
                      <a:endParaRPr b="0" lang="en-US" sz="13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663300"/>
                      </a:solidFill>
                    </a:lnT>
                    <a:lnB w="9360">
                      <a:solidFill>
                        <a:srgbClr val="6633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7</a:t>
                      </a:r>
                      <a:endParaRPr b="0" lang="en-US" sz="13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663300"/>
                      </a:solidFill>
                    </a:lnT>
                    <a:lnB w="9360">
                      <a:solidFill>
                        <a:srgbClr val="6633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5</a:t>
                      </a:r>
                      <a:endParaRPr b="0" lang="en-US" sz="13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663300"/>
                      </a:solidFill>
                    </a:lnT>
                    <a:lnB w="9360">
                      <a:solidFill>
                        <a:srgbClr val="663300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lIns="36000" rIns="36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333300"/>
                          </a:solidFill>
                          <a:latin typeface="Verdana"/>
                        </a:rPr>
                        <a:t>Положение России </a:t>
                      </a:r>
                      <a:br>
                        <a:rPr sz="1300"/>
                      </a:br>
                      <a:r>
                        <a:rPr b="1" i="1" lang="en-US" sz="1300" spc="-1" strike="noStrike">
                          <a:solidFill>
                            <a:srgbClr val="333300"/>
                          </a:solidFill>
                          <a:latin typeface="Verdana"/>
                        </a:rPr>
                        <a:t>(с учетом ошибки измерения)</a:t>
                      </a:r>
                      <a:endParaRPr b="0" lang="en-US" sz="13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663300"/>
                      </a:solidFill>
                    </a:lnT>
                    <a:lnB w="9360">
                      <a:solidFill>
                        <a:srgbClr val="663300"/>
                      </a:solidFill>
                    </a:lnB>
                    <a:solidFill>
                      <a:srgbClr val="ffcc99">
                        <a:alpha val="50000"/>
                      </a:srgbClr>
                    </a:solidFill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7-29</a:t>
                      </a:r>
                      <a:endParaRPr b="0" lang="en-US" sz="13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663300"/>
                      </a:solidFill>
                    </a:lnT>
                    <a:lnB w="9360">
                      <a:solidFill>
                        <a:srgbClr val="6633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2-34</a:t>
                      </a:r>
                      <a:endParaRPr b="0" lang="en-US" sz="13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663300"/>
                      </a:solidFill>
                    </a:lnT>
                    <a:lnB w="9360">
                      <a:solidFill>
                        <a:srgbClr val="6633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7-40</a:t>
                      </a:r>
                      <a:endParaRPr b="0" lang="en-US" sz="13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663300"/>
                      </a:solidFill>
                    </a:lnT>
                    <a:lnB w="9360">
                      <a:solidFill>
                        <a:srgbClr val="6633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1-43</a:t>
                      </a:r>
                      <a:endParaRPr b="0" lang="en-US" sz="13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663300"/>
                      </a:solidFill>
                    </a:lnT>
                    <a:lnB w="9360">
                      <a:solidFill>
                        <a:srgbClr val="663300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lIns="36000" rIns="36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333300"/>
                          </a:solidFill>
                          <a:latin typeface="Verdana"/>
                        </a:rPr>
                        <a:t>Средний балл России</a:t>
                      </a:r>
                      <a:endParaRPr b="0" lang="en-US" sz="13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663300"/>
                      </a:solidFill>
                    </a:lnT>
                    <a:lnB w="9360">
                      <a:solidFill>
                        <a:srgbClr val="663300"/>
                      </a:solidFill>
                    </a:lnB>
                    <a:solidFill>
                      <a:srgbClr val="ffcc99">
                        <a:alpha val="50000"/>
                      </a:srgbClr>
                    </a:solidFill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62</a:t>
                      </a:r>
                      <a:endParaRPr b="0" lang="en-US" sz="13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663300"/>
                      </a:solidFill>
                    </a:lnT>
                    <a:lnB w="9360">
                      <a:solidFill>
                        <a:srgbClr val="6633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42</a:t>
                      </a:r>
                      <a:endParaRPr b="0" lang="en-US" sz="13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663300"/>
                      </a:solidFill>
                    </a:lnT>
                    <a:lnB w="9360">
                      <a:solidFill>
                        <a:srgbClr val="6633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40</a:t>
                      </a:r>
                      <a:endParaRPr b="0" lang="en-US" sz="13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663300"/>
                      </a:solidFill>
                    </a:lnT>
                    <a:lnB w="9360">
                      <a:solidFill>
                        <a:srgbClr val="6633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59</a:t>
                      </a:r>
                      <a:endParaRPr b="0" lang="en-US" sz="13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663300"/>
                      </a:solidFill>
                    </a:lnT>
                    <a:lnB w="9360">
                      <a:solidFill>
                        <a:srgbClr val="663300"/>
                      </a:solidFill>
                    </a:lnB>
                    <a:noFill/>
                  </a:tcPr>
                </a:tc>
              </a:tr>
              <a:tr h="406440">
                <a:tc gridSpan="5"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равнение стран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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участниц программы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ISA</a:t>
                      </a:r>
                      <a:endParaRPr b="0" lang="en-US" sz="14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663300"/>
                      </a:solidFill>
                    </a:lnT>
                    <a:lnB w="9360">
                      <a:solidFill>
                        <a:srgbClr val="6633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06480">
                <a:tc>
                  <a:txBody>
                    <a:bodyPr lIns="36000" rIns="36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Число стран, результаты которых </a:t>
                      </a:r>
                      <a:r>
                        <a:rPr b="1" lang="en-US" sz="1300" spc="-1" strike="noStrike" u="sng">
                          <a:solidFill>
                            <a:srgbClr val="000000"/>
                          </a:solidFill>
                          <a:uFillTx/>
                          <a:latin typeface="Verdana"/>
                        </a:rPr>
                        <a:t>ВЫШЕ </a:t>
                      </a: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результатов России</a:t>
                      </a:r>
                      <a:endParaRPr b="0" lang="en-US" sz="13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663300"/>
                      </a:solidFill>
                    </a:lnT>
                    <a:lnB w="9360">
                      <a:solidFill>
                        <a:srgbClr val="663300"/>
                      </a:solidFill>
                    </a:lnB>
                    <a:solidFill>
                      <a:srgbClr val="ffcc99">
                        <a:alpha val="50000"/>
                      </a:srgbClr>
                    </a:solidFill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6</a:t>
                      </a:r>
                      <a:endParaRPr b="0" lang="en-US" sz="13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663300"/>
                      </a:solidFill>
                    </a:lnT>
                    <a:lnB w="9360">
                      <a:solidFill>
                        <a:srgbClr val="6633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1</a:t>
                      </a:r>
                      <a:endParaRPr b="0" lang="en-US" sz="13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663300"/>
                      </a:solidFill>
                    </a:lnT>
                    <a:lnB w="9360">
                      <a:solidFill>
                        <a:srgbClr val="6633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6</a:t>
                      </a:r>
                      <a:endParaRPr b="0" lang="en-US" sz="13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663300"/>
                      </a:solidFill>
                    </a:lnT>
                    <a:lnB w="9360">
                      <a:solidFill>
                        <a:srgbClr val="6633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8</a:t>
                      </a:r>
                      <a:endParaRPr b="0" lang="en-US" sz="13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663300"/>
                      </a:solidFill>
                    </a:lnT>
                    <a:lnB w="9360">
                      <a:solidFill>
                        <a:srgbClr val="663300"/>
                      </a:solidFill>
                    </a:lnB>
                    <a:noFill/>
                  </a:tcPr>
                </a:tc>
              </a:tr>
              <a:tr h="879480">
                <a:tc>
                  <a:txBody>
                    <a:bodyPr lIns="36000" rIns="36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Число стран, результаты которых </a:t>
                      </a:r>
                      <a:r>
                        <a:rPr b="1" lang="en-US" sz="1300" spc="-1" strike="noStrike" u="sng">
                          <a:solidFill>
                            <a:srgbClr val="000000"/>
                          </a:solidFill>
                          <a:uFillTx/>
                          <a:latin typeface="Verdana"/>
                        </a:rPr>
                        <a:t>СРАВНИМЫ</a:t>
                      </a: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с результатами России</a:t>
                      </a:r>
                      <a:endParaRPr b="0" lang="en-US" sz="13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663300"/>
                      </a:solidFill>
                    </a:lnT>
                    <a:lnB w="9360">
                      <a:solidFill>
                        <a:srgbClr val="663300"/>
                      </a:solidFill>
                    </a:lnB>
                    <a:solidFill>
                      <a:srgbClr val="ffcc99">
                        <a:alpha val="50000"/>
                      </a:srgbClr>
                    </a:solidFill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 </a:t>
                      </a:r>
                      <a:endParaRPr b="0" lang="en-US" sz="13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ортугалия, Латвия</a:t>
                      </a:r>
                      <a:endParaRPr b="0" lang="en-US" sz="13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663300"/>
                      </a:solidFill>
                    </a:lnT>
                    <a:lnB w="9360">
                      <a:solidFill>
                        <a:srgbClr val="6633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 </a:t>
                      </a:r>
                      <a:br>
                        <a:rPr sz="1300"/>
                      </a:b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Турция, Уругвай</a:t>
                      </a:r>
                      <a:endParaRPr b="0" lang="en-US" sz="13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663300"/>
                      </a:solidFill>
                    </a:lnT>
                    <a:lnB w="9360">
                      <a:solidFill>
                        <a:srgbClr val="6633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 </a:t>
                      </a:r>
                      <a:br>
                        <a:rPr sz="1300"/>
                      </a:b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Турция, Чили, Израиль</a:t>
                      </a:r>
                      <a:endParaRPr b="0" lang="en-US" sz="13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663300"/>
                      </a:solidFill>
                    </a:lnT>
                    <a:lnB w="9360">
                      <a:solidFill>
                        <a:srgbClr val="6633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 </a:t>
                      </a:r>
                      <a:br>
                        <a:rPr sz="1300"/>
                      </a:b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Австрия, Литва, Турция, Дубай (ОАЭ)</a:t>
                      </a:r>
                      <a:endParaRPr b="0" lang="en-US" sz="13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663300"/>
                      </a:solidFill>
                    </a:lnT>
                    <a:lnB w="9360">
                      <a:solidFill>
                        <a:srgbClr val="663300"/>
                      </a:solidFill>
                    </a:lnB>
                    <a:noFill/>
                  </a:tcPr>
                </a:tc>
              </a:tr>
              <a:tr h="879480">
                <a:tc>
                  <a:txBody>
                    <a:bodyPr lIns="36000" rIns="36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Число стран, результаты которых </a:t>
                      </a:r>
                      <a:r>
                        <a:rPr b="1" lang="en-US" sz="1300" spc="-1" strike="noStrike" u="sng">
                          <a:solidFill>
                            <a:srgbClr val="000000"/>
                          </a:solidFill>
                          <a:uFillTx/>
                          <a:latin typeface="Verdana"/>
                        </a:rPr>
                        <a:t>НИЖЕ </a:t>
                      </a: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результатов России</a:t>
                      </a:r>
                      <a:endParaRPr b="0" lang="en-US" sz="13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663300"/>
                      </a:solidFill>
                    </a:lnT>
                    <a:lnB w="5760">
                      <a:solidFill>
                        <a:srgbClr val="663300"/>
                      </a:solidFill>
                    </a:lnB>
                    <a:solidFill>
                      <a:srgbClr val="ffcc99">
                        <a:alpha val="50000"/>
                      </a:srgbClr>
                    </a:solidFill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13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663300"/>
                      </a:solidFill>
                    </a:lnT>
                    <a:lnB w="5760">
                      <a:solidFill>
                        <a:srgbClr val="6633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</a:t>
                      </a:r>
                      <a:endParaRPr b="0" lang="en-US" sz="13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663300"/>
                      </a:solidFill>
                    </a:lnT>
                    <a:lnB w="5760">
                      <a:solidFill>
                        <a:srgbClr val="6633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7</a:t>
                      </a:r>
                      <a:endParaRPr b="0" lang="en-US" sz="13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663300"/>
                      </a:solidFill>
                    </a:lnT>
                    <a:lnB w="5760">
                      <a:solidFill>
                        <a:srgbClr val="6633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2</a:t>
                      </a:r>
                      <a:endParaRPr b="0" lang="en-US" sz="13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663300"/>
                      </a:solidFill>
                    </a:lnT>
                    <a:lnB w="5760">
                      <a:solidFill>
                        <a:srgbClr val="6633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пределение математической 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грамотности в исследовании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IS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042560" y="1600200"/>
            <a:ext cx="7643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Математическая грамотност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пособность человека определять и понимать роль математики в мире, в котором он живет, высказывать хорошо обоснованные математические суждения и использовать математику так, чтобы удовлетворять в настоящем и будущем потребности, присущие созидательному, заинтересованному и мыслящему гражданину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Результаты стран по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математической грамотности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5513400" y="1257480"/>
            <a:ext cx="3379680" cy="534024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4932360" y="4221000"/>
            <a:ext cx="3956040" cy="28908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5148360" y="1382760"/>
            <a:ext cx="360360" cy="2909880"/>
          </a:xfrm>
          <a:custGeom>
            <a:avLst/>
            <a:gdLst>
              <a:gd name="textAreaLeft" fmla="*/ 230400 w 360360"/>
              <a:gd name="textAreaRight" fmla="*/ 360720 w 360360"/>
              <a:gd name="textAreaTop" fmla="*/ 75600 h 2909880"/>
              <a:gd name="textAreaBottom" fmla="*/ 2834280 h 2909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148360" y="4292640"/>
            <a:ext cx="349200" cy="288720"/>
          </a:xfrm>
          <a:custGeom>
            <a:avLst/>
            <a:gdLst>
              <a:gd name="textAreaLeft" fmla="*/ 223200 w 349200"/>
              <a:gd name="textAreaRight" fmla="*/ 349560 w 349200"/>
              <a:gd name="textAreaTop" fmla="*/ 7200 h 288720"/>
              <a:gd name="textAreaBottom" fmla="*/ 281520 h 288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148360" y="4618080"/>
            <a:ext cx="342720" cy="1878120"/>
          </a:xfrm>
          <a:custGeom>
            <a:avLst/>
            <a:gdLst>
              <a:gd name="textAreaLeft" fmla="*/ 218880 w 342720"/>
              <a:gd name="textAreaRight" fmla="*/ 343080 w 342720"/>
              <a:gd name="textAreaTop" fmla="*/ 48960 h 1878120"/>
              <a:gd name="textAreaBottom" fmla="*/ 1829160 h 1878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187280" y="1989000"/>
            <a:ext cx="3889440" cy="18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5ff6"/>
                </a:solidFill>
                <a:latin typeface="Arial"/>
              </a:rPr>
              <a:t>Лидирующие страны и территории: Шанхай (Китай), Сингапур, Гонконг (Китай),  Корея,  Тайвань</a:t>
            </a:r>
            <a:endParaRPr b="0" lang="en-US" sz="16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5ff6"/>
                </a:solidFill>
                <a:latin typeface="Arial"/>
              </a:rPr>
              <a:t>36 стран, </a:t>
            </a:r>
            <a:br>
              <a:rPr sz="1600"/>
            </a:br>
            <a:r>
              <a:rPr b="1" lang="en-US" sz="1600" spc="-1" strike="noStrike">
                <a:solidFill>
                  <a:srgbClr val="205ff6"/>
                </a:solidFill>
                <a:latin typeface="Arial"/>
              </a:rPr>
              <a:t>средний балл которых статистически значимо </a:t>
            </a:r>
            <a:r>
              <a:rPr b="1" lang="en-US" sz="1600" spc="-1" strike="noStrike" u="sng">
                <a:solidFill>
                  <a:srgbClr val="205ff6"/>
                </a:solidFill>
                <a:uFillTx/>
                <a:latin typeface="Arial"/>
              </a:rPr>
              <a:t>выше</a:t>
            </a:r>
            <a:r>
              <a:rPr b="1" lang="en-US" sz="1600" spc="-1" strike="noStrike">
                <a:solidFill>
                  <a:srgbClr val="205ff6"/>
                </a:solidFill>
                <a:latin typeface="Arial"/>
              </a:rPr>
              <a:t> среднего балла России</a:t>
            </a:r>
            <a:endParaRPr b="0" lang="en-US" sz="16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042920" y="5300640"/>
            <a:ext cx="4176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5ff6"/>
                </a:solidFill>
                <a:latin typeface="Arial"/>
              </a:rPr>
              <a:t>25 стран, средний балл которых статистически значимо </a:t>
            </a:r>
            <a:r>
              <a:rPr b="1" lang="en-US" sz="1600" spc="-1" strike="noStrike" u="sng">
                <a:solidFill>
                  <a:srgbClr val="205ff6"/>
                </a:solidFill>
                <a:uFillTx/>
                <a:latin typeface="Arial"/>
              </a:rPr>
              <a:t>ниже</a:t>
            </a:r>
            <a:r>
              <a:rPr b="1" lang="en-US" sz="1600" spc="-1" strike="noStrike">
                <a:solidFill>
                  <a:srgbClr val="205ff6"/>
                </a:solidFill>
                <a:latin typeface="Arial"/>
              </a:rPr>
              <a:t> среднего балла России</a:t>
            </a:r>
            <a:endParaRPr b="0" lang="en-US" sz="16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042920" y="4076640"/>
            <a:ext cx="396072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5ff6"/>
                </a:solidFill>
                <a:latin typeface="Arial"/>
              </a:rPr>
              <a:t>3 страны, средний балл которых не отличается от балла России </a:t>
            </a:r>
            <a:br>
              <a:rPr sz="1600"/>
            </a:br>
            <a:r>
              <a:rPr b="1" lang="en-US" sz="1600" spc="-1" strike="noStrike">
                <a:solidFill>
                  <a:srgbClr val="205ff6"/>
                </a:solidFill>
                <a:latin typeface="Arial"/>
              </a:rPr>
              <a:t>(Литва, Греция, Хорватия)</a:t>
            </a:r>
            <a:endParaRPr b="0" lang="en-US" sz="16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79280" y="274680"/>
            <a:ext cx="8785440" cy="92232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пределение естественнонаучной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грамотности в исследовании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IS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042920" y="1600200"/>
            <a:ext cx="76438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205ff6"/>
                </a:solidFill>
                <a:latin typeface="Arial"/>
              </a:rPr>
              <a:t>     </a:t>
            </a:r>
            <a:r>
              <a:rPr b="1" i="1" lang="en-US" sz="2000" spc="-1" strike="noStrike">
                <a:solidFill>
                  <a:srgbClr val="205ff6"/>
                </a:solidFill>
                <a:latin typeface="Arial"/>
              </a:rPr>
              <a:t>Естественнонаучная грамотность</a:t>
            </a:r>
            <a:r>
              <a:rPr b="0" lang="en-US" sz="2000" spc="-1" strike="noStrike">
                <a:solidFill>
                  <a:srgbClr val="205ff6"/>
                </a:solidFill>
                <a:latin typeface="Arial"/>
              </a:rPr>
              <a:t> – способность человека осваивать и использовать естественнонаучные знания для распознания и постановки вопросов, для освоения новых знаний, для объяснения естественнонаучных явлений и формулирования основанных на научных доказательствах выводов в связи с естественнонаучной проблематикой; понимать основные особенности естествознания как формы человеческого познания; демонстрировать осведомленность в том, что естественные науки и технология оказывают влияние на материальную, интеллектуальную и культурную сферы общества; проявлять активную гражданскую позицию при рассмотрении проблем, связанных с естествознанием.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Результаты стран по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естественнонаучной грамотности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508720" y="1243080"/>
            <a:ext cx="3382920" cy="53370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5003640" y="4292640"/>
            <a:ext cx="3889440" cy="28872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5076720" y="1382760"/>
            <a:ext cx="398520" cy="2909880"/>
          </a:xfrm>
          <a:custGeom>
            <a:avLst/>
            <a:gdLst>
              <a:gd name="textAreaLeft" fmla="*/ 254520 w 398520"/>
              <a:gd name="textAreaRight" fmla="*/ 398880 w 398520"/>
              <a:gd name="textAreaTop" fmla="*/ 75600 h 2909880"/>
              <a:gd name="textAreaBottom" fmla="*/ 2834280 h 2909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108400" y="4327560"/>
            <a:ext cx="349560" cy="309600"/>
          </a:xfrm>
          <a:custGeom>
            <a:avLst/>
            <a:gdLst>
              <a:gd name="textAreaLeft" fmla="*/ 223560 w 349560"/>
              <a:gd name="textAreaRight" fmla="*/ 349920 w 349560"/>
              <a:gd name="textAreaTop" fmla="*/ 7920 h 309600"/>
              <a:gd name="textAreaBottom" fmla="*/ 301680 h 309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076720" y="4707000"/>
            <a:ext cx="398520" cy="1817640"/>
          </a:xfrm>
          <a:custGeom>
            <a:avLst/>
            <a:gdLst>
              <a:gd name="textAreaLeft" fmla="*/ 254520 w 398520"/>
              <a:gd name="textAreaRight" fmla="*/ 398880 w 398520"/>
              <a:gd name="textAreaTop" fmla="*/ 47160 h 1817640"/>
              <a:gd name="textAreaBottom" fmla="*/ 1770480 h 181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187280" y="2060640"/>
            <a:ext cx="3889440" cy="18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5ff6"/>
                </a:solidFill>
                <a:latin typeface="Arial"/>
              </a:rPr>
              <a:t>Лидирующие страны и территории: Шанхай (Китай), Финляндия, Гонконг (Китай), Сингапур, Япония </a:t>
            </a:r>
            <a:endParaRPr b="0" lang="en-US" sz="16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5ff6"/>
                </a:solidFill>
                <a:latin typeface="Arial"/>
              </a:rPr>
              <a:t>37 стран, </a:t>
            </a:r>
            <a:br>
              <a:rPr sz="1600"/>
            </a:br>
            <a:r>
              <a:rPr b="1" lang="en-US" sz="1600" spc="-1" strike="noStrike">
                <a:solidFill>
                  <a:srgbClr val="205ff6"/>
                </a:solidFill>
                <a:latin typeface="Arial"/>
              </a:rPr>
              <a:t>средний балл которых статистически значимо </a:t>
            </a:r>
            <a:r>
              <a:rPr b="1" lang="en-US" sz="1600" spc="-1" strike="noStrike" u="sng">
                <a:solidFill>
                  <a:srgbClr val="205ff6"/>
                </a:solidFill>
                <a:uFillTx/>
                <a:latin typeface="Arial"/>
              </a:rPr>
              <a:t>выше</a:t>
            </a:r>
            <a:r>
              <a:rPr b="1" lang="en-US" sz="1600" spc="-1" strike="noStrike">
                <a:solidFill>
                  <a:srgbClr val="205ff6"/>
                </a:solidFill>
                <a:latin typeface="Arial"/>
              </a:rPr>
              <a:t> среднего балла России</a:t>
            </a:r>
            <a:endParaRPr b="0" lang="en-US" sz="16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042920" y="5300640"/>
            <a:ext cx="4176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5ff6"/>
                </a:solidFill>
                <a:latin typeface="Arial"/>
              </a:rPr>
              <a:t>24 страны, средний балл которых статистически значимо </a:t>
            </a:r>
            <a:r>
              <a:rPr b="1" lang="en-US" sz="1600" spc="-1" strike="noStrike" u="sng">
                <a:solidFill>
                  <a:srgbClr val="205ff6"/>
                </a:solidFill>
                <a:uFillTx/>
                <a:latin typeface="Arial"/>
              </a:rPr>
              <a:t>ниже</a:t>
            </a:r>
            <a:r>
              <a:rPr b="1" lang="en-US" sz="1600" spc="-1" strike="noStrike">
                <a:solidFill>
                  <a:srgbClr val="205ff6"/>
                </a:solidFill>
                <a:latin typeface="Arial"/>
              </a:rPr>
              <a:t> среднего балла России</a:t>
            </a:r>
            <a:endParaRPr b="0" lang="en-US" sz="16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042920" y="3963960"/>
            <a:ext cx="3960720" cy="9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05ff6"/>
                </a:solidFill>
                <a:latin typeface="Arial"/>
              </a:rPr>
              <a:t>4 страны, средний балл которых не отличается от балла России </a:t>
            </a:r>
            <a:br>
              <a:rPr sz="1600"/>
            </a:br>
            <a:r>
              <a:rPr b="1" lang="ru-RU" sz="1600" spc="-1" strike="noStrike">
                <a:solidFill>
                  <a:srgbClr val="205ff6"/>
                </a:solidFill>
                <a:latin typeface="Arial"/>
              </a:rPr>
              <a:t>(Хорватия, Люксембург, Греция, </a:t>
            </a:r>
            <a:br>
              <a:rPr sz="1600"/>
            </a:br>
            <a:r>
              <a:rPr b="1" lang="ru-RU" sz="1600" spc="-1" strike="noStrike">
                <a:solidFill>
                  <a:srgbClr val="205ff6"/>
                </a:solidFill>
                <a:latin typeface="Arial"/>
              </a:rPr>
              <a:t>Дубай (ОАЭ))</a:t>
            </a:r>
            <a:endParaRPr b="0" lang="en-US" sz="16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Уровни функциональной грамотности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900000" y="1052640"/>
            <a:ext cx="2232000" cy="554508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3419640" y="2303640"/>
            <a:ext cx="489744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Самостоятельно мыслящие и способные функционировать в сложных условиях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916360" y="1844640"/>
            <a:ext cx="360360" cy="1440000"/>
          </a:xfrm>
          <a:custGeom>
            <a:avLst/>
            <a:gdLst>
              <a:gd name="textAreaLeft" fmla="*/ 0 w 360360"/>
              <a:gd name="textAreaRight" fmla="*/ 129960 w 360360"/>
              <a:gd name="textAreaTop" fmla="*/ 37440 h 1440000"/>
              <a:gd name="textAreaBottom" fmla="*/ 1402560 h 144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987640" y="3357720"/>
            <a:ext cx="568800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205ff6"/>
                </a:solidFill>
                <a:latin typeface="Arial"/>
              </a:rPr>
              <a:t>4 уровень</a:t>
            </a:r>
            <a:r>
              <a:rPr b="1" lang="en-US" sz="1800" spc="-1" strike="noStrike">
                <a:solidFill>
                  <a:srgbClr val="205ff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– проявляется способность использовать имеющиеся знания и умения для получения новой информации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987640" y="4692600"/>
            <a:ext cx="583236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205ff6"/>
                </a:solidFill>
                <a:latin typeface="Arial"/>
              </a:rPr>
              <a:t>2 уровень</a:t>
            </a:r>
            <a:r>
              <a:rPr b="1" lang="en-US" sz="1800" spc="-1" strike="noStrike">
                <a:solidFill>
                  <a:srgbClr val="205ff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– пороговый, при достижении которого учащиеся начинают демонстрировать применение знаний и умений в простейших не учебных ситуациях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Распределение учащихся по уровням функциональной грамотности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042560" y="1267920"/>
            <a:ext cx="764388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4" descr=""/>
          <p:cNvPicPr/>
          <p:nvPr/>
        </p:nvPicPr>
        <p:blipFill>
          <a:blip r:embed="rId1"/>
          <a:stretch/>
        </p:blipFill>
        <p:spPr>
          <a:xfrm>
            <a:off x="2411280" y="1203480"/>
            <a:ext cx="4565880" cy="258588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5" descr=""/>
          <p:cNvPicPr/>
          <p:nvPr/>
        </p:nvPicPr>
        <p:blipFill>
          <a:blip r:embed="rId2"/>
          <a:stretch/>
        </p:blipFill>
        <p:spPr>
          <a:xfrm>
            <a:off x="2411280" y="3795840"/>
            <a:ext cx="4567320" cy="25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Гендерные различия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116000" y="1484280"/>
            <a:ext cx="2087640" cy="5490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05ff6"/>
                </a:solidFill>
                <a:latin typeface="Arial"/>
              </a:rPr>
              <a:t>Читательская</a:t>
            </a:r>
            <a:br>
              <a:rPr sz="1800"/>
            </a:br>
            <a:r>
              <a:rPr b="1" lang="en-US" sz="1800" spc="-1" strike="noStrike">
                <a:solidFill>
                  <a:srgbClr val="205ff6"/>
                </a:solidFill>
                <a:latin typeface="Arial"/>
              </a:rPr>
              <a:t>грамотность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083280" y="1584360"/>
            <a:ext cx="2449440" cy="5490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05ff6"/>
                </a:solidFill>
                <a:latin typeface="Arial"/>
              </a:rPr>
              <a:t>Математическая</a:t>
            </a:r>
            <a:br>
              <a:rPr sz="1800"/>
            </a:br>
            <a:r>
              <a:rPr b="1" lang="en-US" sz="1800" spc="-1" strike="noStrike">
                <a:solidFill>
                  <a:srgbClr val="205ff6"/>
                </a:solidFill>
                <a:latin typeface="Arial"/>
              </a:rPr>
              <a:t>грамотность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083280" y="2232000"/>
            <a:ext cx="2448000" cy="5490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05ff6"/>
                </a:solidFill>
                <a:latin typeface="Arial"/>
              </a:rPr>
              <a:t>Естественнонаучная грамотность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187280" y="2997360"/>
            <a:ext cx="2232360" cy="2303280"/>
          </a:xfrm>
          <a:custGeom>
            <a:avLst/>
            <a:gdLst>
              <a:gd name="textAreaLeft" fmla="*/ 108720 w 2232360"/>
              <a:gd name="textAreaRight" fmla="*/ 2123640 w 2232360"/>
              <a:gd name="textAreaTop" fmla="*/ 108720 h 2303280"/>
              <a:gd name="textAreaBottom" fmla="*/ 2194560 h 2303280"/>
            </a:gdLst>
            <a:ahLst/>
            <a:rect l="textAreaLeft" t="textAreaTop" r="textAreaRight" b="textAreaBottom"/>
            <a:pathLst>
              <a:path w="21600" h="22286">
                <a:moveTo>
                  <a:pt x="3600" y="0"/>
                </a:moveTo>
                <a:arcTo wR="3600" hR="3600" stAng="16200000" swAng="-5400000"/>
                <a:lnTo>
                  <a:pt x="0" y="18686"/>
                </a:lnTo>
                <a:arcTo wR="3600" hR="3600" stAng="10800000" swAng="-5400000"/>
                <a:lnTo>
                  <a:pt x="18000" y="2228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05ff6"/>
                </a:solidFill>
                <a:latin typeface="Arial"/>
              </a:rPr>
              <a:t>Во всех странах </a:t>
            </a:r>
            <a:br>
              <a:rPr sz="1800"/>
            </a:br>
            <a:r>
              <a:rPr b="1" lang="en-US" sz="1800" spc="-1" strike="noStrike">
                <a:solidFill>
                  <a:srgbClr val="205ff6"/>
                </a:solidFill>
                <a:latin typeface="Arial"/>
              </a:rPr>
              <a:t>читательская </a:t>
            </a:r>
            <a:br>
              <a:rPr sz="1800"/>
            </a:br>
            <a:r>
              <a:rPr b="1" lang="en-US" sz="1800" spc="-1" strike="noStrike">
                <a:solidFill>
                  <a:srgbClr val="205ff6"/>
                </a:solidFill>
                <a:latin typeface="Arial"/>
              </a:rPr>
              <a:t>грамотность</a:t>
            </a:r>
            <a:br>
              <a:rPr sz="1800"/>
            </a:br>
            <a:r>
              <a:rPr b="1" lang="en-US" sz="1800" spc="-1" strike="noStrike">
                <a:solidFill>
                  <a:srgbClr val="205ff6"/>
                </a:solidFill>
                <a:latin typeface="Arial"/>
              </a:rPr>
              <a:t> девушек выше, </a:t>
            </a:r>
            <a:br>
              <a:rPr sz="1800"/>
            </a:br>
            <a:r>
              <a:rPr b="1" lang="en-US" sz="1800" spc="-1" strike="noStrike">
                <a:solidFill>
                  <a:srgbClr val="205ff6"/>
                </a:solidFill>
                <a:latin typeface="Arial"/>
              </a:rPr>
              <a:t>чем юношей.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084720" y="2997360"/>
            <a:ext cx="2519640" cy="2736720"/>
          </a:xfrm>
          <a:custGeom>
            <a:avLst/>
            <a:gdLst>
              <a:gd name="textAreaLeft" fmla="*/ 122760 w 2519640"/>
              <a:gd name="textAreaRight" fmla="*/ 2396880 w 2519640"/>
              <a:gd name="textAreaTop" fmla="*/ 122760 h 2736720"/>
              <a:gd name="textAreaBottom" fmla="*/ 2613960 h 2736720"/>
            </a:gdLst>
            <a:ahLst/>
            <a:rect l="textAreaLeft" t="textAreaTop" r="textAreaRight" b="textAreaBottom"/>
            <a:pathLst>
              <a:path w="21600" h="23461">
                <a:moveTo>
                  <a:pt x="3600" y="0"/>
                </a:moveTo>
                <a:arcTo wR="3600" hR="3600" stAng="16200000" swAng="-5400000"/>
                <a:lnTo>
                  <a:pt x="0" y="19861"/>
                </a:lnTo>
                <a:arcTo wR="3600" hR="3600" stAng="10800000" swAng="-5400000"/>
                <a:lnTo>
                  <a:pt x="18000" y="2346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05ff6"/>
                </a:solidFill>
                <a:latin typeface="Arial"/>
              </a:rPr>
              <a:t>В России</a:t>
            </a:r>
            <a:br>
              <a:rPr sz="1800"/>
            </a:br>
            <a:r>
              <a:rPr b="1" lang="ru-RU" sz="1800" spc="-1" strike="noStrike">
                <a:solidFill>
                  <a:srgbClr val="205ff6"/>
                </a:solidFill>
                <a:latin typeface="Arial"/>
              </a:rPr>
              <a:t>гендерные </a:t>
            </a:r>
            <a:br>
              <a:rPr sz="1800"/>
            </a:br>
            <a:r>
              <a:rPr b="1" lang="ru-RU" sz="1800" spc="-1" strike="noStrike">
                <a:solidFill>
                  <a:srgbClr val="205ff6"/>
                </a:solidFill>
                <a:latin typeface="Arial"/>
              </a:rPr>
              <a:t>различия</a:t>
            </a:r>
            <a:br>
              <a:rPr sz="1800"/>
            </a:br>
            <a:r>
              <a:rPr b="1" lang="ru-RU" sz="1800" spc="-1" strike="noStrike">
                <a:solidFill>
                  <a:srgbClr val="205ff6"/>
                </a:solidFill>
                <a:latin typeface="Arial"/>
              </a:rPr>
              <a:t> не выявляются </a:t>
            </a:r>
            <a:br>
              <a:rPr sz="1800"/>
            </a:b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05ff6"/>
                </a:solidFill>
                <a:latin typeface="Arial"/>
              </a:rPr>
              <a:t>В других странах</a:t>
            </a:r>
            <a:br>
              <a:rPr sz="1800"/>
            </a:br>
            <a:r>
              <a:rPr b="1" lang="ru-RU" sz="1800" spc="-1" strike="noStrike">
                <a:solidFill>
                  <a:srgbClr val="205ff6"/>
                </a:solidFill>
                <a:latin typeface="Arial"/>
              </a:rPr>
              <a:t>наблюдаются </a:t>
            </a:r>
            <a:br>
              <a:rPr sz="1800"/>
            </a:br>
            <a:r>
              <a:rPr b="1" lang="ru-RU" sz="1800" spc="-1" strike="noStrike">
                <a:solidFill>
                  <a:srgbClr val="205ff6"/>
                </a:solidFill>
                <a:latin typeface="Arial"/>
              </a:rPr>
              <a:t>разные</a:t>
            </a:r>
            <a:br>
              <a:rPr sz="1800"/>
            </a:br>
            <a:r>
              <a:rPr b="1" lang="ru-RU" sz="1800" spc="-1" strike="noStrike">
                <a:solidFill>
                  <a:srgbClr val="205ff6"/>
                </a:solidFill>
                <a:latin typeface="Arial"/>
              </a:rPr>
              <a:t> тенденции.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3492360" y="2349360"/>
            <a:ext cx="2497320" cy="31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Результаты российских учащихся, отличающихся образовательными программами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042560" y="1197000"/>
            <a:ext cx="810108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246240" y="1052640"/>
            <a:ext cx="8789400" cy="5501880"/>
            <a:chOff x="246240" y="1052640"/>
            <a:chExt cx="8789400" cy="5501880"/>
          </a:xfrm>
        </p:grpSpPr>
        <p:pic>
          <p:nvPicPr>
            <p:cNvPr id="248" name="" descr=""/>
            <p:cNvPicPr/>
            <p:nvPr/>
          </p:nvPicPr>
          <p:blipFill>
            <a:blip r:embed="rId1"/>
            <a:stretch/>
          </p:blipFill>
          <p:spPr>
            <a:xfrm>
              <a:off x="1398240" y="1168200"/>
              <a:ext cx="1320480" cy="538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9" name="" descr=""/>
            <p:cNvPicPr/>
            <p:nvPr/>
          </p:nvPicPr>
          <p:blipFill>
            <a:blip r:embed="rId2"/>
            <a:stretch/>
          </p:blipFill>
          <p:spPr>
            <a:xfrm>
              <a:off x="946080" y="1052640"/>
              <a:ext cx="2409120" cy="199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0" name="" descr=""/>
            <p:cNvPicPr/>
            <p:nvPr/>
          </p:nvPicPr>
          <p:blipFill>
            <a:blip r:embed="rId3"/>
            <a:stretch/>
          </p:blipFill>
          <p:spPr>
            <a:xfrm>
              <a:off x="317160" y="2809800"/>
              <a:ext cx="2439360" cy="193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1" name="" descr=""/>
            <p:cNvPicPr/>
            <p:nvPr/>
          </p:nvPicPr>
          <p:blipFill>
            <a:blip r:embed="rId4"/>
            <a:stretch/>
          </p:blipFill>
          <p:spPr>
            <a:xfrm>
              <a:off x="246240" y="4462560"/>
              <a:ext cx="2485080" cy="362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2" name="" descr=""/>
            <p:cNvPicPr/>
            <p:nvPr/>
          </p:nvPicPr>
          <p:blipFill>
            <a:blip r:embed="rId5"/>
            <a:stretch/>
          </p:blipFill>
          <p:spPr>
            <a:xfrm>
              <a:off x="246240" y="4867200"/>
              <a:ext cx="2453400" cy="17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3" name="" descr=""/>
            <p:cNvPicPr/>
            <p:nvPr/>
          </p:nvPicPr>
          <p:blipFill>
            <a:blip r:embed="rId6"/>
            <a:stretch/>
          </p:blipFill>
          <p:spPr>
            <a:xfrm>
              <a:off x="317160" y="5656320"/>
              <a:ext cx="2447280" cy="178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4" name="" descr=""/>
            <p:cNvPicPr/>
            <p:nvPr/>
          </p:nvPicPr>
          <p:blipFill>
            <a:blip r:embed="rId7"/>
            <a:stretch/>
          </p:blipFill>
          <p:spPr>
            <a:xfrm>
              <a:off x="4069440" y="1154160"/>
              <a:ext cx="1328400" cy="539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5" name="" descr=""/>
            <p:cNvPicPr/>
            <p:nvPr/>
          </p:nvPicPr>
          <p:blipFill>
            <a:blip r:embed="rId8"/>
            <a:stretch/>
          </p:blipFill>
          <p:spPr>
            <a:xfrm>
              <a:off x="7020360" y="1154160"/>
              <a:ext cx="1360080" cy="5373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6" name="" descr=""/>
            <p:cNvPicPr/>
            <p:nvPr/>
          </p:nvPicPr>
          <p:blipFill>
            <a:blip r:embed="rId9"/>
            <a:stretch/>
          </p:blipFill>
          <p:spPr>
            <a:xfrm>
              <a:off x="3447360" y="1055520"/>
              <a:ext cx="2666520" cy="199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7" name="" descr=""/>
            <p:cNvPicPr/>
            <p:nvPr/>
          </p:nvPicPr>
          <p:blipFill>
            <a:blip r:embed="rId10"/>
            <a:stretch/>
          </p:blipFill>
          <p:spPr>
            <a:xfrm>
              <a:off x="6293160" y="1054080"/>
              <a:ext cx="2742480" cy="190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8" name="" descr=""/>
            <p:cNvPicPr/>
            <p:nvPr/>
          </p:nvPicPr>
          <p:blipFill>
            <a:blip r:embed="rId11"/>
            <a:stretch/>
          </p:blipFill>
          <p:spPr>
            <a:xfrm>
              <a:off x="3125160" y="2809800"/>
              <a:ext cx="2260080" cy="178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9" name="" descr=""/>
            <p:cNvPicPr/>
            <p:nvPr/>
          </p:nvPicPr>
          <p:blipFill>
            <a:blip r:embed="rId12"/>
            <a:stretch/>
          </p:blipFill>
          <p:spPr>
            <a:xfrm>
              <a:off x="3104640" y="4054320"/>
              <a:ext cx="2280600" cy="352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0" name="" descr=""/>
            <p:cNvPicPr/>
            <p:nvPr/>
          </p:nvPicPr>
          <p:blipFill>
            <a:blip r:embed="rId13"/>
            <a:stretch/>
          </p:blipFill>
          <p:spPr>
            <a:xfrm>
              <a:off x="3085560" y="4525920"/>
              <a:ext cx="2302560" cy="17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1" name="" descr=""/>
            <p:cNvPicPr/>
            <p:nvPr/>
          </p:nvPicPr>
          <p:blipFill>
            <a:blip r:embed="rId14"/>
            <a:stretch/>
          </p:blipFill>
          <p:spPr>
            <a:xfrm>
              <a:off x="3080880" y="5145120"/>
              <a:ext cx="2302560" cy="186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2" name="" descr=""/>
            <p:cNvPicPr/>
            <p:nvPr/>
          </p:nvPicPr>
          <p:blipFill>
            <a:blip r:embed="rId15"/>
            <a:stretch/>
          </p:blipFill>
          <p:spPr>
            <a:xfrm>
              <a:off x="6034320" y="2666880"/>
              <a:ext cx="2345760" cy="164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3" name="" descr=""/>
            <p:cNvPicPr/>
            <p:nvPr/>
          </p:nvPicPr>
          <p:blipFill>
            <a:blip r:embed="rId16"/>
            <a:stretch/>
          </p:blipFill>
          <p:spPr>
            <a:xfrm>
              <a:off x="5972400" y="4260600"/>
              <a:ext cx="2388600" cy="17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4" name="" descr=""/>
            <p:cNvPicPr/>
            <p:nvPr/>
          </p:nvPicPr>
          <p:blipFill>
            <a:blip r:embed="rId17"/>
            <a:stretch/>
          </p:blipFill>
          <p:spPr>
            <a:xfrm>
              <a:off x="6004080" y="4454280"/>
              <a:ext cx="2349000" cy="17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5" name="" descr=""/>
            <p:cNvPicPr/>
            <p:nvPr/>
          </p:nvPicPr>
          <p:blipFill>
            <a:blip r:embed="rId18"/>
            <a:stretch/>
          </p:blipFill>
          <p:spPr>
            <a:xfrm>
              <a:off x="6013800" y="4640040"/>
              <a:ext cx="2353320" cy="17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6" name="" descr=""/>
            <p:cNvPicPr/>
            <p:nvPr/>
          </p:nvPicPr>
          <p:blipFill>
            <a:blip r:embed="rId19"/>
            <a:stretch/>
          </p:blipFill>
          <p:spPr>
            <a:xfrm>
              <a:off x="5956560" y="5005440"/>
              <a:ext cx="2388600" cy="1868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Связь результатов образовательных учреждений и социальных, экономических и культурных характеристик семей учащихся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042560" y="1267920"/>
            <a:ext cx="230508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9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2" descr=""/>
          <p:cNvPicPr/>
          <p:nvPr/>
        </p:nvPicPr>
        <p:blipFill>
          <a:blip r:embed="rId1"/>
          <a:stretch/>
        </p:blipFill>
        <p:spPr>
          <a:xfrm>
            <a:off x="1319040" y="1916280"/>
            <a:ext cx="7623360" cy="4249440"/>
          </a:xfrm>
          <a:prstGeom prst="rect">
            <a:avLst/>
          </a:prstGeom>
          <a:ln w="0">
            <a:noFill/>
          </a:ln>
        </p:spPr>
      </p:pic>
      <p:sp>
        <p:nvSpPr>
          <p:cNvPr id="270" name="Скругленный прямоугольник 6"/>
          <p:cNvSpPr/>
          <p:nvPr/>
        </p:nvSpPr>
        <p:spPr>
          <a:xfrm>
            <a:off x="4211640" y="1413000"/>
            <a:ext cx="1584360" cy="431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d0d0d"/>
                </a:solidFill>
                <a:latin typeface="Arial"/>
                <a:ea typeface="Arial"/>
              </a:rPr>
              <a:t>Россия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а какие вопросы может ответить программа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ISA-2009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042560" y="1600200"/>
            <a:ext cx="7643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ково состояние российского образования с точки зрения международных стандартов, основанных на компетентностном подходе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то изменилось в российском образовании за последнее десятилетие с точки зрения компетентностного подхода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каком направлении следует совершенствовать российское образование? Какие средства и методы можно использовать для достижения положительного эффекта?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9152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Связь результатов образовательных учреждений и социальных, экономических и культурных характеристик семей учащихся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2" name="Группа 4"/>
          <p:cNvGrpSpPr/>
          <p:nvPr/>
        </p:nvGrpSpPr>
        <p:grpSpPr>
          <a:xfrm>
            <a:off x="166680" y="1052640"/>
            <a:ext cx="8869320" cy="5616360"/>
            <a:chOff x="166680" y="1052640"/>
            <a:chExt cx="8869320" cy="5616360"/>
          </a:xfrm>
        </p:grpSpPr>
        <p:pic>
          <p:nvPicPr>
            <p:cNvPr id="273" name="Picture 2" descr=""/>
            <p:cNvPicPr/>
            <p:nvPr/>
          </p:nvPicPr>
          <p:blipFill>
            <a:blip r:embed="rId1"/>
            <a:stretch/>
          </p:blipFill>
          <p:spPr>
            <a:xfrm>
              <a:off x="2122560" y="1052640"/>
              <a:ext cx="5112720" cy="28857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74" name="Группа 6"/>
            <p:cNvGrpSpPr/>
            <p:nvPr/>
          </p:nvGrpSpPr>
          <p:grpSpPr>
            <a:xfrm>
              <a:off x="166680" y="3897360"/>
              <a:ext cx="8869320" cy="2771640"/>
              <a:chOff x="166680" y="3897360"/>
              <a:chExt cx="8869320" cy="2771640"/>
            </a:xfrm>
          </p:grpSpPr>
          <p:pic>
            <p:nvPicPr>
              <p:cNvPr id="275" name="Picture 2" descr=""/>
              <p:cNvPicPr/>
              <p:nvPr/>
            </p:nvPicPr>
            <p:blipFill>
              <a:blip r:embed="rId2"/>
              <a:stretch/>
            </p:blipFill>
            <p:spPr>
              <a:xfrm>
                <a:off x="166680" y="3955320"/>
                <a:ext cx="4372200" cy="2704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76" name="Picture 3" descr=""/>
              <p:cNvPicPr/>
              <p:nvPr/>
            </p:nvPicPr>
            <p:blipFill>
              <a:blip r:embed="rId3"/>
              <a:stretch/>
            </p:blipFill>
            <p:spPr>
              <a:xfrm>
                <a:off x="4467240" y="3897360"/>
                <a:ext cx="4568760" cy="27716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77" name="Скругленный прямоугольник 11"/>
          <p:cNvSpPr/>
          <p:nvPr/>
        </p:nvSpPr>
        <p:spPr>
          <a:xfrm>
            <a:off x="324000" y="3500280"/>
            <a:ext cx="1584000" cy="432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d0d0d"/>
                </a:solidFill>
                <a:latin typeface="Arial"/>
                <a:ea typeface="Arial"/>
              </a:rPr>
              <a:t>Финляндия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78" name="Скругленный прямоугольник 13"/>
          <p:cNvSpPr/>
          <p:nvPr/>
        </p:nvSpPr>
        <p:spPr>
          <a:xfrm>
            <a:off x="7236000" y="3357720"/>
            <a:ext cx="1728720" cy="502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d0d0d"/>
                </a:solidFill>
                <a:latin typeface="Arial"/>
                <a:ea typeface="Arial"/>
              </a:rPr>
              <a:t>Республика Корея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79" name="Скругленный прямоугольник 14"/>
          <p:cNvSpPr/>
          <p:nvPr/>
        </p:nvSpPr>
        <p:spPr>
          <a:xfrm>
            <a:off x="324000" y="981000"/>
            <a:ext cx="1584000" cy="432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d0d0d"/>
                </a:solidFill>
                <a:latin typeface="Arial"/>
                <a:ea typeface="Arial"/>
              </a:rPr>
              <a:t>Россия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1258920" y="2421000"/>
            <a:ext cx="684216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205ff6"/>
                </a:solidFill>
                <a:latin typeface="Arial"/>
              </a:rPr>
              <a:t>Что изменилось в российском образовании за последнее десятилетие с точки зрения компетентностного подхода?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Изменение результатов российских учащихся по читательской грамотности за период с 2000 по 2009 годы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3255840" y="1268280"/>
            <a:ext cx="5780160" cy="512136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/>
          <p:nvPr/>
        </p:nvSpPr>
        <p:spPr>
          <a:xfrm>
            <a:off x="1116000" y="1916280"/>
            <a:ext cx="2087640" cy="9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205ff6"/>
                </a:solidFill>
                <a:uFillTx/>
                <a:latin typeface="Arial"/>
              </a:rPr>
              <a:t>2000 </a:t>
            </a:r>
            <a:r>
              <a:rPr b="0" lang="en-US" sz="1800" spc="-1" strike="noStrike" u="sng">
                <a:solidFill>
                  <a:srgbClr val="205ff6"/>
                </a:solidFill>
                <a:uFillTx/>
                <a:latin typeface="Wingdings 3"/>
                <a:ea typeface="Wingdings 3"/>
              </a:rPr>
              <a:t></a:t>
            </a:r>
            <a:r>
              <a:rPr b="0" lang="en-US" sz="1800" spc="-1" strike="noStrike" u="sng">
                <a:solidFill>
                  <a:srgbClr val="205ff6"/>
                </a:solidFill>
                <a:uFillTx/>
                <a:latin typeface="Arial"/>
              </a:rPr>
              <a:t>2003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Результаты ухудшились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116000" y="3206880"/>
            <a:ext cx="2087640" cy="9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205ff6"/>
                </a:solidFill>
                <a:uFillTx/>
                <a:latin typeface="Arial"/>
              </a:rPr>
              <a:t>2003 </a:t>
            </a:r>
            <a:r>
              <a:rPr b="0" lang="en-US" sz="1800" spc="-1" strike="noStrike" u="sng">
                <a:solidFill>
                  <a:srgbClr val="205ff6"/>
                </a:solidFill>
                <a:uFillTx/>
                <a:latin typeface="Wingdings 3"/>
                <a:ea typeface="Wingdings 3"/>
              </a:rPr>
              <a:t></a:t>
            </a:r>
            <a:r>
              <a:rPr b="0" lang="en-US" sz="1800" spc="-1" strike="noStrike" u="sng">
                <a:solidFill>
                  <a:srgbClr val="205ff6"/>
                </a:solidFill>
                <a:uFillTx/>
                <a:latin typeface="Arial"/>
              </a:rPr>
              <a:t>2006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Результаты не изменились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116000" y="4502160"/>
            <a:ext cx="2087640" cy="9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205ff6"/>
                </a:solidFill>
                <a:uFillTx/>
                <a:latin typeface="Arial"/>
              </a:rPr>
              <a:t>2006 </a:t>
            </a:r>
            <a:r>
              <a:rPr b="0" lang="en-US" sz="1800" spc="-1" strike="noStrike" u="sng">
                <a:solidFill>
                  <a:srgbClr val="205ff6"/>
                </a:solidFill>
                <a:uFillTx/>
                <a:latin typeface="Wingdings 3"/>
                <a:ea typeface="Wingdings 3"/>
              </a:rPr>
              <a:t></a:t>
            </a:r>
            <a:r>
              <a:rPr b="0" lang="en-US" sz="1800" spc="-1" strike="noStrike" u="sng">
                <a:solidFill>
                  <a:srgbClr val="205ff6"/>
                </a:solidFill>
                <a:uFillTx/>
                <a:latin typeface="Arial"/>
              </a:rPr>
              <a:t>2009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Результаты лучше, но…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Изменение результатов ряда стран за период с 2000 по 2009 годы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1521000" y="1271520"/>
            <a:ext cx="3263760" cy="2662200"/>
          </a:xfrm>
          <a:prstGeom prst="rect">
            <a:avLst/>
          </a:prstGeom>
          <a:ln w="0">
            <a:noFill/>
          </a:ln>
        </p:spPr>
      </p:pic>
      <p:pic>
        <p:nvPicPr>
          <p:cNvPr id="288" name="" descr=""/>
          <p:cNvPicPr/>
          <p:nvPr/>
        </p:nvPicPr>
        <p:blipFill>
          <a:blip r:embed="rId2"/>
          <a:stretch/>
        </p:blipFill>
        <p:spPr>
          <a:xfrm>
            <a:off x="5148360" y="1268280"/>
            <a:ext cx="3189240" cy="259884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3"/>
          <a:stretch/>
        </p:blipFill>
        <p:spPr>
          <a:xfrm>
            <a:off x="1547640" y="3860640"/>
            <a:ext cx="3283200" cy="2664000"/>
          </a:xfrm>
          <a:prstGeom prst="rect">
            <a:avLst/>
          </a:prstGeom>
          <a:ln w="0">
            <a:noFill/>
          </a:ln>
        </p:spPr>
      </p:pic>
      <p:pic>
        <p:nvPicPr>
          <p:cNvPr id="290" name="" descr=""/>
          <p:cNvPicPr/>
          <p:nvPr/>
        </p:nvPicPr>
        <p:blipFill>
          <a:blip r:embed="rId4"/>
          <a:stretch/>
        </p:blipFill>
        <p:spPr>
          <a:xfrm>
            <a:off x="5148360" y="3860640"/>
            <a:ext cx="3203640" cy="27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Изменение структуры выборки российских учащихся за период с 2000 по 2009 годы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>
            <a:off x="1258920" y="1268280"/>
            <a:ext cx="7272360" cy="438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Изменение результатов российских учащихся с учетом образовательных программ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94" name=""/>
          <p:cNvGraphicFramePr/>
          <p:nvPr/>
        </p:nvGraphicFramePr>
        <p:xfrm>
          <a:off x="1042920" y="1600200"/>
          <a:ext cx="7643880" cy="4525560"/>
        </p:xfrm>
        <a:graphic>
          <a:graphicData uri="http://schemas.openxmlformats.org/drawingml/2006/table">
            <a:tbl>
              <a:tblPr/>
              <a:tblGrid>
                <a:gridCol w="1416600"/>
                <a:gridCol w="1123560"/>
                <a:gridCol w="1227960"/>
                <a:gridCol w="1139040"/>
                <a:gridCol w="1242000"/>
                <a:gridCol w="1494720"/>
              </a:tblGrid>
              <a:tr h="384120">
                <a:tc rowSpan="2"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Образова-тельная программа</a:t>
                      </a:r>
                      <a:endParaRPr b="0" lang="en-US" sz="14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>
                      <a:noFill/>
                    </a:lnL>
                    <a:lnR w="9360">
                      <a:solidFill>
                        <a:srgbClr val="ffffff"/>
                      </a:solidFill>
                    </a:lnR>
                    <a:lnT>
                      <a:noFill/>
                    </a:lnT>
                    <a:lnB w="9360">
                      <a:solidFill>
                        <a:srgbClr val="663300"/>
                      </a:solidFill>
                    </a:lnB>
                    <a:solidFill>
                      <a:srgbClr val="663300"/>
                    </a:solidFill>
                  </a:tcPr>
                </a:tc>
                <a:tc gridSpan="2"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ISA-</a:t>
                      </a: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000 </a:t>
                      </a:r>
                      <a:endParaRPr b="0" lang="en-US" sz="14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6633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ISA-</a:t>
                      </a: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00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9</a:t>
                      </a:r>
                      <a:endParaRPr b="0" lang="en-US" sz="14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6633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Разница баллов между 2000 и 2009 (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PISA-2009 – 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PISA-2000)</a:t>
                      </a:r>
                      <a:endParaRPr b="0" lang="en-US" sz="14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93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663300"/>
                    </a:solidFill>
                  </a:tcPr>
                </a:tc>
              </a:tr>
              <a:tr h="989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% уч-ся в выборке</a:t>
                      </a:r>
                      <a:endParaRPr b="0" lang="en-US" sz="14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663300"/>
                    </a:solidFill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Средний балл (С.О.)</a:t>
                      </a:r>
                      <a:endParaRPr b="0" lang="en-US" sz="14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663300"/>
                    </a:solidFill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% уч-ся в выборке</a:t>
                      </a:r>
                      <a:endParaRPr b="0" lang="en-US" sz="14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663300"/>
                    </a:solidFill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Средний балл (С.О.)</a:t>
                      </a:r>
                      <a:endParaRPr b="0" lang="en-US" sz="14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663300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8000">
                <a:tc>
                  <a:txBody>
                    <a:bodyPr lIns="36000" rIns="36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Verdana"/>
                        </a:rPr>
                        <a:t>Нет данных</a:t>
                      </a:r>
                      <a:endParaRPr b="0" lang="en-US" sz="14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663300"/>
                      </a:solidFill>
                    </a:lnT>
                    <a:lnB w="9360">
                      <a:solidFill>
                        <a:srgbClr val="663300"/>
                      </a:solidFill>
                    </a:lnB>
                    <a:solidFill>
                      <a:srgbClr val="ffcc99">
                        <a:alpha val="50000"/>
                      </a:srgbClr>
                    </a:solidFill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,2</a:t>
                      </a:r>
                      <a:endParaRPr b="0" lang="en-US" sz="14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6633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68 (38,7)</a:t>
                      </a:r>
                      <a:endParaRPr b="0" lang="en-US" sz="14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6633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</a:t>
                      </a:r>
                      <a:endParaRPr b="0" lang="en-US" sz="14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6633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</a:t>
                      </a:r>
                      <a:endParaRPr b="0" lang="en-US" sz="14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6633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</a:t>
                      </a:r>
                      <a:endParaRPr b="0" lang="en-US" sz="14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663300"/>
                      </a:solidFill>
                    </a:lnB>
                    <a:noFill/>
                  </a:tcPr>
                </a:tc>
              </a:tr>
              <a:tr h="448200">
                <a:tc>
                  <a:txBody>
                    <a:bodyPr lIns="36000" rIns="36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Verdana"/>
                        </a:rPr>
                        <a:t>7 класс</a:t>
                      </a:r>
                      <a:endParaRPr b="0" lang="en-US" sz="14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663300"/>
                      </a:solidFill>
                    </a:lnT>
                    <a:lnB w="9360">
                      <a:solidFill>
                        <a:srgbClr val="663300"/>
                      </a:solidFill>
                    </a:lnB>
                    <a:solidFill>
                      <a:srgbClr val="ffcc99">
                        <a:alpha val="50000"/>
                      </a:srgbClr>
                    </a:solidFill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,1</a:t>
                      </a:r>
                      <a:endParaRPr b="0" lang="en-US" sz="14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663300"/>
                      </a:solidFill>
                    </a:lnT>
                    <a:lnB w="9360">
                      <a:solidFill>
                        <a:srgbClr val="6633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00 (25,9)</a:t>
                      </a:r>
                      <a:endParaRPr b="0" lang="en-US" sz="14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663300"/>
                      </a:solidFill>
                    </a:lnT>
                    <a:lnB w="9360">
                      <a:solidFill>
                        <a:srgbClr val="6633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,9</a:t>
                      </a:r>
                      <a:endParaRPr b="0" lang="en-US" sz="14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663300"/>
                      </a:solidFill>
                    </a:lnT>
                    <a:lnB w="9360">
                      <a:solidFill>
                        <a:srgbClr val="6633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46 (18,4)</a:t>
                      </a:r>
                      <a:endParaRPr b="0" lang="en-US" sz="14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663300"/>
                      </a:solidFill>
                    </a:lnT>
                    <a:lnB w="9360">
                      <a:solidFill>
                        <a:srgbClr val="6633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45,7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</a:t>
                      </a:r>
                      <a:endParaRPr b="0" lang="en-US" sz="14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663300"/>
                      </a:solidFill>
                    </a:lnT>
                    <a:lnB w="9360">
                      <a:solidFill>
                        <a:srgbClr val="663300"/>
                      </a:solidFill>
                    </a:lnB>
                    <a:noFill/>
                  </a:tcPr>
                </a:tc>
              </a:tr>
              <a:tr h="445680">
                <a:tc>
                  <a:txBody>
                    <a:bodyPr lIns="36000" rIns="36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 класс</a:t>
                      </a:r>
                      <a:endParaRPr b="0" lang="en-US" sz="14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663300"/>
                      </a:solidFill>
                    </a:lnT>
                    <a:lnB w="9360">
                      <a:solidFill>
                        <a:srgbClr val="663300"/>
                      </a:solidFill>
                    </a:lnB>
                    <a:solidFill>
                      <a:srgbClr val="ffcc99">
                        <a:alpha val="50000"/>
                      </a:srgbClr>
                    </a:solidFill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,0</a:t>
                      </a:r>
                      <a:endParaRPr b="0" lang="en-US" sz="14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663300"/>
                      </a:solidFill>
                    </a:lnT>
                    <a:lnB w="9360">
                      <a:solidFill>
                        <a:srgbClr val="6633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69 (11,1)</a:t>
                      </a:r>
                      <a:endParaRPr b="0" lang="en-US" sz="14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663300"/>
                      </a:solidFill>
                    </a:lnT>
                    <a:lnB w="9360">
                      <a:solidFill>
                        <a:srgbClr val="6633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,0</a:t>
                      </a:r>
                      <a:endParaRPr b="0" lang="en-US" sz="14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663300"/>
                      </a:solidFill>
                    </a:lnT>
                    <a:lnB w="9360">
                      <a:solidFill>
                        <a:srgbClr val="6633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18 (5,6)</a:t>
                      </a:r>
                      <a:endParaRPr b="0" lang="en-US" sz="14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663300"/>
                      </a:solidFill>
                    </a:lnT>
                    <a:lnB w="9360">
                      <a:solidFill>
                        <a:srgbClr val="6633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49,0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</a:t>
                      </a:r>
                      <a:endParaRPr b="0" lang="en-US" sz="14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663300"/>
                      </a:solidFill>
                    </a:lnT>
                    <a:lnB w="9360">
                      <a:solidFill>
                        <a:srgbClr val="6633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36000" rIns="36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 класс</a:t>
                      </a:r>
                      <a:endParaRPr b="0" lang="en-US" sz="14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663300"/>
                      </a:solidFill>
                    </a:lnT>
                    <a:lnB w="9360">
                      <a:solidFill>
                        <a:srgbClr val="663300"/>
                      </a:solidFill>
                    </a:lnB>
                    <a:solidFill>
                      <a:srgbClr val="ffcc99">
                        <a:alpha val="50000"/>
                      </a:srgbClr>
                    </a:solidFill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7,2</a:t>
                      </a:r>
                      <a:endParaRPr b="0" lang="en-US" sz="14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663300"/>
                      </a:solidFill>
                    </a:lnT>
                    <a:lnB w="9360">
                      <a:solidFill>
                        <a:srgbClr val="6633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45 (5,8)</a:t>
                      </a:r>
                      <a:endParaRPr b="0" lang="en-US" sz="14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663300"/>
                      </a:solidFill>
                    </a:lnT>
                    <a:lnB w="9360">
                      <a:solidFill>
                        <a:srgbClr val="6633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,1</a:t>
                      </a:r>
                      <a:endParaRPr b="0" lang="en-US" sz="14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663300"/>
                      </a:solidFill>
                    </a:lnT>
                    <a:lnB w="9360">
                      <a:solidFill>
                        <a:srgbClr val="6633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55 (3,9)</a:t>
                      </a:r>
                      <a:endParaRPr b="0" lang="en-US" sz="14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663300"/>
                      </a:solidFill>
                    </a:lnT>
                    <a:lnB w="9360">
                      <a:solidFill>
                        <a:srgbClr val="6633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10,0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</a:t>
                      </a:r>
                      <a:endParaRPr b="0" lang="en-US" sz="14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663300"/>
                      </a:solidFill>
                    </a:lnT>
                    <a:lnB w="9360">
                      <a:solidFill>
                        <a:srgbClr val="663300"/>
                      </a:solidFill>
                    </a:lnB>
                    <a:noFill/>
                  </a:tcPr>
                </a:tc>
              </a:tr>
              <a:tr h="438480">
                <a:tc>
                  <a:txBody>
                    <a:bodyPr lIns="36000" rIns="36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 класс</a:t>
                      </a:r>
                      <a:endParaRPr b="0" lang="en-US" sz="14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663300"/>
                      </a:solidFill>
                    </a:lnT>
                    <a:lnB w="9360">
                      <a:solidFill>
                        <a:srgbClr val="663300"/>
                      </a:solidFill>
                    </a:lnB>
                    <a:solidFill>
                      <a:srgbClr val="ffcc99">
                        <a:alpha val="50000"/>
                      </a:srgbClr>
                    </a:solidFill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7,8</a:t>
                      </a:r>
                      <a:endParaRPr b="0" lang="en-US" sz="14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663300"/>
                      </a:solidFill>
                    </a:lnT>
                    <a:lnB w="9360">
                      <a:solidFill>
                        <a:srgbClr val="6633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92 (5,1)</a:t>
                      </a:r>
                      <a:endParaRPr b="0" lang="en-US" sz="14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663300"/>
                      </a:solidFill>
                    </a:lnT>
                    <a:lnB w="9360">
                      <a:solidFill>
                        <a:srgbClr val="6633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3,1</a:t>
                      </a:r>
                      <a:endParaRPr b="0" lang="en-US" sz="14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663300"/>
                      </a:solidFill>
                    </a:lnT>
                    <a:lnB w="9360">
                      <a:solidFill>
                        <a:srgbClr val="6633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98 (4,1)</a:t>
                      </a:r>
                      <a:endParaRPr b="0" lang="en-US" sz="14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663300"/>
                      </a:solidFill>
                    </a:lnT>
                    <a:lnB w="9360">
                      <a:solidFill>
                        <a:srgbClr val="6633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,3</a:t>
                      </a:r>
                      <a:endParaRPr b="0" lang="en-US" sz="14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663300"/>
                      </a:solidFill>
                    </a:lnT>
                    <a:lnB w="9360">
                      <a:solidFill>
                        <a:srgbClr val="663300"/>
                      </a:solidFill>
                    </a:lnB>
                    <a:noFill/>
                  </a:tcPr>
                </a:tc>
              </a:tr>
              <a:tr h="438120">
                <a:tc>
                  <a:txBody>
                    <a:bodyPr lIns="36000" rIns="36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 класс</a:t>
                      </a:r>
                      <a:endParaRPr b="0" lang="en-US" sz="14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663300"/>
                      </a:solidFill>
                    </a:lnT>
                    <a:lnB w="9360">
                      <a:solidFill>
                        <a:srgbClr val="663300"/>
                      </a:solidFill>
                    </a:lnB>
                    <a:solidFill>
                      <a:srgbClr val="ffcc99">
                        <a:alpha val="50000"/>
                      </a:srgbClr>
                    </a:solidFill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,6</a:t>
                      </a:r>
                      <a:endParaRPr b="0" lang="en-US" sz="14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663300"/>
                      </a:solidFill>
                    </a:lnT>
                    <a:lnB w="9360">
                      <a:solidFill>
                        <a:srgbClr val="6633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58 (14,3)</a:t>
                      </a:r>
                      <a:endParaRPr b="0" lang="en-US" sz="14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663300"/>
                      </a:solidFill>
                    </a:lnT>
                    <a:lnB w="9360">
                      <a:solidFill>
                        <a:srgbClr val="6633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,9</a:t>
                      </a:r>
                      <a:endParaRPr b="0" lang="en-US" sz="14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663300"/>
                      </a:solidFill>
                    </a:lnT>
                    <a:lnB w="9360">
                      <a:solidFill>
                        <a:srgbClr val="6633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22 (10,6)</a:t>
                      </a:r>
                      <a:endParaRPr b="0" lang="en-US" sz="14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663300"/>
                      </a:solidFill>
                    </a:lnT>
                    <a:lnB w="9360">
                      <a:solidFill>
                        <a:srgbClr val="6633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35,9</a:t>
                      </a:r>
                      <a:endParaRPr b="0" lang="en-US" sz="14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663300"/>
                      </a:solidFill>
                    </a:lnT>
                    <a:lnB w="9360">
                      <a:solidFill>
                        <a:srgbClr val="663300"/>
                      </a:solidFill>
                    </a:lnB>
                    <a:noFill/>
                  </a:tcPr>
                </a:tc>
              </a:tr>
              <a:tr h="438480">
                <a:tc>
                  <a:txBody>
                    <a:bodyPr lIns="36000" rIns="36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ПО, СПО</a:t>
                      </a:r>
                      <a:endParaRPr b="0" lang="en-US" sz="14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663300"/>
                      </a:solidFill>
                    </a:lnT>
                    <a:lnB w="5760">
                      <a:solidFill>
                        <a:srgbClr val="663300"/>
                      </a:solidFill>
                    </a:lnB>
                    <a:solidFill>
                      <a:srgbClr val="ffcc99">
                        <a:alpha val="50000"/>
                      </a:srgbClr>
                    </a:solidFill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2,1</a:t>
                      </a:r>
                      <a:endParaRPr b="0" lang="en-US" sz="14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663300"/>
                      </a:solidFill>
                    </a:lnT>
                    <a:lnB w="5760">
                      <a:solidFill>
                        <a:srgbClr val="6633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23 (8,4)</a:t>
                      </a:r>
                      <a:endParaRPr b="0" lang="en-US" sz="14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663300"/>
                      </a:solidFill>
                    </a:lnT>
                    <a:lnB w="5760">
                      <a:solidFill>
                        <a:srgbClr val="6633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,9</a:t>
                      </a:r>
                      <a:endParaRPr b="0" lang="en-US" sz="14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663300"/>
                      </a:solidFill>
                    </a:lnT>
                    <a:lnB w="5760">
                      <a:solidFill>
                        <a:srgbClr val="6633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25 (9,7)</a:t>
                      </a:r>
                      <a:endParaRPr b="0" lang="en-US" sz="14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663300"/>
                      </a:solidFill>
                    </a:lnT>
                    <a:lnB w="5760">
                      <a:solidFill>
                        <a:srgbClr val="6633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,4</a:t>
                      </a:r>
                      <a:endParaRPr b="0" lang="en-US" sz="14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663300"/>
                      </a:solidFill>
                    </a:lnT>
                    <a:lnB w="5760">
                      <a:solidFill>
                        <a:srgbClr val="6633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/>
          </p:nvPr>
        </p:nvSpPr>
        <p:spPr>
          <a:xfrm>
            <a:off x="1042560" y="1600200"/>
            <a:ext cx="7643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В каком направлении следует совершенствовать российское образование? Какие средства и методы можно использовать для достижения положительного эффекта?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Усиление компетентностного подхода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7" name="Picture 2" descr=""/>
          <p:cNvPicPr/>
          <p:nvPr/>
        </p:nvPicPr>
        <p:blipFill>
          <a:blip r:embed="rId1"/>
          <a:stretch/>
        </p:blipFill>
        <p:spPr>
          <a:xfrm>
            <a:off x="179280" y="2349360"/>
            <a:ext cx="8820360" cy="325296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1187280" y="1628640"/>
            <a:ext cx="691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05ff6"/>
                </a:solidFill>
                <a:latin typeface="Arial"/>
              </a:rPr>
              <a:t>Результаты России в международных сравнительных исследованиях качества общего образования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Учет факторов, влияющих на читательскую грамотность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1008000" y="1268280"/>
            <a:ext cx="7885080" cy="418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Распределение учащихся на группы в зависимости от их круга чтения и овладения учебными стратегиями работы с текстом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1835280" y="1268280"/>
            <a:ext cx="7013520" cy="500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95280" y="70920"/>
            <a:ext cx="829152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Международная программа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ISA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по оценке образовательных достижений учащихся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042560" y="1600200"/>
            <a:ext cx="7643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сновная цель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оценка способности 15-летних учащихся использовать приобретенные в школе знания и опыт для широкого диапазона жизненных задач в различных сферах человеческой деятельности, общения и социальных отношений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ополнительная инновационная цел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2009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оду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оценка чтения электронных текстов, оценка сформированности учебных стратегий работы с текстом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литическая цел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оценка качества и эффективности образования, равенства доступа к образованию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Связь между читательской грамотностью  и особенностями чтения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4" name="Picture 2" descr=""/>
          <p:cNvPicPr/>
          <p:nvPr/>
        </p:nvPicPr>
        <p:blipFill>
          <a:blip r:embed="rId1"/>
          <a:stretch/>
        </p:blipFill>
        <p:spPr>
          <a:xfrm>
            <a:off x="2195640" y="1268280"/>
            <a:ext cx="4889520" cy="249732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3" descr=""/>
          <p:cNvPicPr/>
          <p:nvPr/>
        </p:nvPicPr>
        <p:blipFill>
          <a:blip r:embed="rId2"/>
          <a:stretch/>
        </p:blipFill>
        <p:spPr>
          <a:xfrm>
            <a:off x="2195640" y="3884760"/>
            <a:ext cx="4878360" cy="249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459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Связь между читательской грамотностью  и особенностями чтения </a:t>
            </a:r>
            <a:br>
              <a:rPr sz="2800"/>
            </a:b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7" name="Picture 2" descr=""/>
          <p:cNvPicPr/>
          <p:nvPr/>
        </p:nvPicPr>
        <p:blipFill>
          <a:blip r:embed="rId1"/>
          <a:stretch/>
        </p:blipFill>
        <p:spPr>
          <a:xfrm>
            <a:off x="1187280" y="1484280"/>
            <a:ext cx="7632720" cy="38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41904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Связь между читательской грамотностью  и особенностями чтения </a:t>
            </a:r>
            <a:br>
              <a:rPr sz="2800"/>
            </a:b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9" name="Picture 3" descr=""/>
          <p:cNvPicPr/>
          <p:nvPr/>
        </p:nvPicPr>
        <p:blipFill>
          <a:blip r:embed="rId1"/>
          <a:stretch/>
        </p:blipFill>
        <p:spPr>
          <a:xfrm>
            <a:off x="1116000" y="1557360"/>
            <a:ext cx="7416720" cy="37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Учет факторов, характеризующих наиболее эффективные школы в формировании читательской грамотности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042560" y="1600200"/>
            <a:ext cx="7643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втономия школы и эффективная система подотчетности школы перед органами управления образованием, родителями и представителями общественности, открытая публикация результатов деятельности школы и итоговой аттестации выпускников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втономия школы в разработке учебного плана и учебных программ, приобретении оборудования и материалов, а также определении системы оценки учебных достижений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хорошая дисциплина в школе и хорошие доверительные отношения между учащимися и учителями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Учет факторов, характеризующих наиболее эффективные системы образования в формировании читательской грамотности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042560" y="1341000"/>
            <a:ext cx="764388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обеспечение равных возможностей получения качественного образования независимо от социально-экономического статуса учащихся посредством выстраивания индивидуальных траекторий обучения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сещение учащимися системы дошкольного образования (зависимость от числа лет посещения учреждения дошкольного образования, соотношения числа детей на одного воспитателя, расходов на одного ребенка)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аличие независимой системы стандартизированных экзаменов, оценивающих достижение образовательных стандартов (зависимость от того, как используются результаты – только для отчетности или для оказания помощи отстающим)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адекватное ресурсное обеспечение школы, независимо от социально-экономического статуса школы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адекватная заработная плата школьных учителей, независимо от размеров класса и др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/>
          </p:nvPr>
        </p:nvSpPr>
        <p:spPr>
          <a:xfrm>
            <a:off x="1042920" y="1600200"/>
            <a:ext cx="741672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ля дополнительной информации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рганизация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кономическог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трудничеств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вития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(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ЭС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(Organization for Economic Cooperation and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Development, OECD) –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AU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</a:t>
            </a:r>
            <a:r>
              <a:rPr b="1" lang="en-US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.</a:t>
            </a:r>
            <a:r>
              <a:rPr b="1" lang="en-AU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oecd</a:t>
            </a:r>
            <a:r>
              <a:rPr b="1" lang="en-US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.</a:t>
            </a:r>
            <a:r>
              <a:rPr b="1" lang="en-AU" sz="2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org</a:t>
            </a:r>
            <a:r>
              <a:rPr b="1" lang="en-US" sz="20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/</a:t>
            </a:r>
            <a:r>
              <a:rPr b="1" lang="en-AU" sz="20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edu</a:t>
            </a:r>
            <a:r>
              <a:rPr b="1" lang="en-US" sz="20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/</a:t>
            </a:r>
            <a:r>
              <a:rPr b="1" lang="en-AU" sz="20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pis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встралийский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ве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дагогических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следований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(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The Australian Council for Educational Researc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AC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–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AU" sz="20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http</a:t>
            </a:r>
            <a:r>
              <a:rPr b="1" lang="en-US" sz="20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://</a:t>
            </a:r>
            <a:r>
              <a:rPr b="1" lang="en-AU" sz="20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www</a:t>
            </a:r>
            <a:r>
              <a:rPr b="1" lang="en-US" sz="20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.</a:t>
            </a:r>
            <a:r>
              <a:rPr b="1" lang="en-AU" sz="20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acer</a:t>
            </a:r>
            <a:r>
              <a:rPr b="1" lang="en-US" sz="20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.</a:t>
            </a:r>
            <a:r>
              <a:rPr b="1" lang="en-AU" sz="20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edu</a:t>
            </a:r>
            <a:r>
              <a:rPr b="1" lang="en-US" sz="20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.</a:t>
            </a:r>
            <a:r>
              <a:rPr b="1" lang="en-AU" sz="20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au</a:t>
            </a:r>
            <a:r>
              <a:rPr b="1" lang="en-US" sz="20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/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дел оценки качества общего образования ИСМО РА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AU" sz="2000" spc="-1" strike="noStrike" u="sng">
                <a:solidFill>
                  <a:srgbClr val="009999"/>
                </a:solidFill>
                <a:uFillTx/>
                <a:latin typeface="Arial"/>
                <a:hlinkClick r:id="rId20"/>
              </a:rPr>
              <a:t>http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21"/>
              </a:rPr>
              <a:t>://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2"/>
              </a:rPr>
              <a:t>www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23"/>
              </a:rPr>
              <a:t>.</a:t>
            </a:r>
            <a:r>
              <a:rPr b="0" lang="en-AU" sz="2000" spc="-1" strike="noStrike" u="sng">
                <a:solidFill>
                  <a:srgbClr val="009999"/>
                </a:solidFill>
                <a:uFillTx/>
                <a:latin typeface="Arial"/>
                <a:hlinkClick r:id="rId24"/>
              </a:rPr>
              <a:t>centeroko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25"/>
              </a:rPr>
              <a:t>.</a:t>
            </a:r>
            <a:r>
              <a:rPr b="0" lang="en-AU" sz="2000" spc="-1" strike="noStrike" u="sng">
                <a:solidFill>
                  <a:srgbClr val="009999"/>
                </a:solidFill>
                <a:uFillTx/>
                <a:latin typeface="Arial"/>
                <a:hlinkClick r:id="rId26"/>
              </a:rPr>
              <a:t>ru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27"/>
              </a:rPr>
              <a:t>/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-mail: </a:t>
            </a:r>
            <a:r>
              <a:rPr b="1" lang="en-US" sz="2000" spc="-1" strike="noStrike" u="sng">
                <a:solidFill>
                  <a:srgbClr val="009999"/>
                </a:solidFill>
                <a:uFillTx/>
                <a:latin typeface="Arial"/>
                <a:hlinkClick r:id="rId28"/>
              </a:rPr>
              <a:t>centeroko@mail.ru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ел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факс 8-499-246-2421,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валева Галина Сергеевна –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координатор исследования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ISA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России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95280" y="70920"/>
            <a:ext cx="829152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Международная программа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ISA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о оценке образовательных достижений учащихся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042560" y="1600200"/>
            <a:ext cx="7643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сновные задач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Оценить функциональную грамотность 15-летних учащихся в области чтения, математики и естествознания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Выявить динамику  результатов (2000, 2003,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2006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, 2009 годы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Выявить факторы, позволяющие объяснить различия в результатах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траны-участницы исследования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ISA-2009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1008000" y="1271520"/>
            <a:ext cx="7885080" cy="395784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3852720" y="472932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05ff6"/>
                </a:solidFill>
                <a:latin typeface="Arial"/>
              </a:rPr>
              <a:t>Страны-партнеры ОЭСР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332000" y="472932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05ff6"/>
                </a:solidFill>
                <a:latin typeface="Arial"/>
              </a:rPr>
              <a:t>Страны ОЭСР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04840" y="5517720"/>
            <a:ext cx="7788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65 стран и территорий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Более 470 тысяч 15-летних учащихся, представляющих 27 млн. учащихся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116000" y="5373720"/>
            <a:ext cx="7704000" cy="0"/>
          </a:xfrm>
          <a:prstGeom prst="line">
            <a:avLst/>
          </a:prstGeom>
          <a:ln cap="rnd" w="50760">
            <a:solidFill>
              <a:srgbClr val="000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Характеристика российских участников исследования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ISA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-2009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042560" y="1600200"/>
            <a:ext cx="7643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5 субъектов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Российской Федерации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10 образовательных учреждений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633 учащихс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15-летнего возраста, обучавшихся по программам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основного общего образования (7-9 классы), 71%, из них учащиеся 9 класса составили 60,1%;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общего среднего образования, – 24% (из них учащиеся 10 класса - 23,1%);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начального и среднего профессионального образования – 4,9%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1042560" y="1600200"/>
            <a:ext cx="7643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Каково состояние российского образования с точки зрения международных стандартов, основанных на компетентностном подходе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79280" y="274680"/>
            <a:ext cx="885672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пределение читательской 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грамотности в исследовании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IS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547280" y="1600200"/>
            <a:ext cx="7067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Verdana"/>
              </a:rPr>
              <a:t>Читательская грамотност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способность человека понимать и использовать письменные тексты, размышлять о них и заниматься чтением для того, чтобы достигать своих целей, расширять свои знания и возможности, участвовать в социальной жизни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5567400" y="1257480"/>
            <a:ext cx="3382920" cy="53053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4886280" y="4584600"/>
            <a:ext cx="4067280" cy="217440"/>
          </a:xfrm>
          <a:prstGeom prst="rect">
            <a:avLst/>
          </a:prstGeom>
          <a:ln w="0">
            <a:noFill/>
          </a:ln>
        </p:spPr>
      </p:pic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Результаты стран 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о читательской грамотности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148360" y="1382760"/>
            <a:ext cx="398520" cy="3024000"/>
          </a:xfrm>
          <a:custGeom>
            <a:avLst/>
            <a:gdLst>
              <a:gd name="textAreaLeft" fmla="*/ 254520 w 398520"/>
              <a:gd name="textAreaRight" fmla="*/ 398880 w 398520"/>
              <a:gd name="textAreaTop" fmla="*/ 78840 h 3024000"/>
              <a:gd name="textAreaBottom" fmla="*/ 2945160 h 30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197320" y="4479840"/>
            <a:ext cx="349560" cy="360360"/>
          </a:xfrm>
          <a:custGeom>
            <a:avLst/>
            <a:gdLst>
              <a:gd name="textAreaLeft" fmla="*/ 223560 w 349560"/>
              <a:gd name="textAreaRight" fmla="*/ 349920 w 34956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148360" y="4911840"/>
            <a:ext cx="398520" cy="1584360"/>
          </a:xfrm>
          <a:custGeom>
            <a:avLst/>
            <a:gdLst>
              <a:gd name="textAreaLeft" fmla="*/ 254520 w 398520"/>
              <a:gd name="textAreaRight" fmla="*/ 398880 w 398520"/>
              <a:gd name="textAreaTop" fmla="*/ 41040 h 1584360"/>
              <a:gd name="textAreaBottom" fmla="*/ 1543320 h 158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042920" y="2133720"/>
            <a:ext cx="4249800" cy="15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05ff6"/>
                </a:solidFill>
                <a:latin typeface="Arial"/>
              </a:rPr>
              <a:t>Лидирующие страны и территории: Корея, Финляндия,</a:t>
            </a:r>
            <a:r>
              <a:rPr b="1" lang="en-US" sz="1600" spc="-1" strike="noStrike">
                <a:solidFill>
                  <a:srgbClr val="205ff6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205ff6"/>
                </a:solidFill>
                <a:latin typeface="Arial"/>
              </a:rPr>
              <a:t>Шанхай (Китай), Гонконг (Китай), Сингапур</a:t>
            </a:r>
            <a:endParaRPr b="0" lang="en-US" sz="16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05ff6"/>
                </a:solidFill>
                <a:latin typeface="Arial"/>
              </a:rPr>
              <a:t>38 стран, </a:t>
            </a:r>
            <a:br>
              <a:rPr sz="1600"/>
            </a:br>
            <a:r>
              <a:rPr b="1" lang="ru-RU" sz="1600" spc="-1" strike="noStrike">
                <a:solidFill>
                  <a:srgbClr val="205ff6"/>
                </a:solidFill>
                <a:latin typeface="Arial"/>
              </a:rPr>
              <a:t>средний балл которых статистически значимо </a:t>
            </a:r>
            <a:r>
              <a:rPr b="1" lang="ru-RU" sz="1600" spc="-1" strike="noStrike" u="sng">
                <a:solidFill>
                  <a:srgbClr val="205ff6"/>
                </a:solidFill>
                <a:uFillTx/>
                <a:latin typeface="Arial"/>
              </a:rPr>
              <a:t>выше</a:t>
            </a:r>
            <a:r>
              <a:rPr b="1" lang="ru-RU" sz="1600" spc="-1" strike="noStrike">
                <a:solidFill>
                  <a:srgbClr val="205ff6"/>
                </a:solidFill>
                <a:latin typeface="Arial"/>
              </a:rPr>
              <a:t> среднего балла России</a:t>
            </a:r>
            <a:endParaRPr b="0" lang="en-US" sz="16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042920" y="5300640"/>
            <a:ext cx="4176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5ff6"/>
                </a:solidFill>
                <a:latin typeface="Arial"/>
              </a:rPr>
              <a:t>22 страны, средний балл которых статистически значимо </a:t>
            </a:r>
            <a:r>
              <a:rPr b="1" lang="en-US" sz="1600" spc="-1" strike="noStrike" u="sng">
                <a:solidFill>
                  <a:srgbClr val="205ff6"/>
                </a:solidFill>
                <a:uFillTx/>
                <a:latin typeface="Arial"/>
              </a:rPr>
              <a:t>ниже</a:t>
            </a:r>
            <a:r>
              <a:rPr b="1" lang="en-US" sz="1600" spc="-1" strike="noStrike">
                <a:solidFill>
                  <a:srgbClr val="205ff6"/>
                </a:solidFill>
                <a:latin typeface="Arial"/>
              </a:rPr>
              <a:t> среднего балла России</a:t>
            </a:r>
            <a:endParaRPr b="0" lang="en-US" sz="16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042920" y="4292640"/>
            <a:ext cx="396072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05ff6"/>
                </a:solidFill>
                <a:latin typeface="Arial"/>
              </a:rPr>
              <a:t>4 страны, средний балл которых не отличается от балла России </a:t>
            </a:r>
            <a:br>
              <a:rPr sz="1600"/>
            </a:br>
            <a:r>
              <a:rPr b="1" lang="ru-RU" sz="1600" spc="-1" strike="noStrike">
                <a:solidFill>
                  <a:srgbClr val="205ff6"/>
                </a:solidFill>
                <a:latin typeface="Arial"/>
              </a:rPr>
              <a:t>(Австрия, Литва, Турция, Дубай (ОАЭ))</a:t>
            </a:r>
            <a:endParaRPr b="0" lang="en-US" sz="16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3T11:04:58Z</dcterms:created>
  <dc:creator>master</dc:creator>
  <dc:description/>
  <dc:language>en-US</dc:language>
  <cp:lastModifiedBy>master</cp:lastModifiedBy>
  <dcterms:modified xsi:type="dcterms:W3CDTF">2010-12-07T07:07:30Z</dcterms:modified>
  <cp:revision>46</cp:revision>
  <dc:subject/>
  <dc:title>Слайд 1</dc:title>
</cp:coreProperties>
</file>